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15.png" ContentType="image/png"/>
  <Override PartName="/ppt/media/image3.jpeg" ContentType="image/jpeg"/>
  <Override PartName="/ppt/media/image4.jpeg" ContentType="image/jpeg"/>
  <Override PartName="/ppt/media/image2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860F1-E445-4392-94AE-7EB24A8C8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6270A-F0C6-4E47-A7D6-2F3757E96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81E38-B488-4427-9888-2F6DAA9F7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6C94D-53F8-4379-8C03-6B43D9AB6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9F73C-9A7A-4145-B61B-E767E99C8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43121-7FA9-4F77-9A27-2A2B81C01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08F57-62FB-4F39-9056-915AE8633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C774B-E50E-4FFF-B440-5E0305F2E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565E4-78A7-4C75-B5E8-EAE9A4718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3AA9F-1362-4DC1-8537-1BD059E08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07FB9-F412-411F-A3D0-9FB56C7C0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4E15A-8A67-4FEF-9156-7801E03FF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d1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9944B-EDCE-49BB-85B6-CE4F5673FA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2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it-n.ru/communities.aspx?cat_no=5025&amp;lib_no=23224&amp;tmpl=lib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3352680" y="1600200"/>
            <a:ext cx="5181840" cy="33148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1752480" y="152280"/>
            <a:ext cx="6019920" cy="1181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арта полушарий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886200" y="2286000"/>
            <a:ext cx="4114800" cy="22384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5257800"/>
            <a:ext cx="9144000" cy="1600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124080" y="5334120"/>
            <a:ext cx="6019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Автор: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учитель начальных классов МОУ СОШ №49 г.Волгограда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ШЕВЦОВА С.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533520" y="3581280"/>
            <a:ext cx="2133360" cy="28162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565240" y="6491160"/>
            <a:ext cx="83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10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81240" y="1828800"/>
            <a:ext cx="2775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идактическое пособ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ля урок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кружающего  мир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-4 клас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d1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rcRect l="49584" t="4329" r="3335" b="4779"/>
          <a:stretch/>
        </p:blipFill>
        <p:spPr>
          <a:xfrm>
            <a:off x="4572000" y="914400"/>
            <a:ext cx="4572000" cy="48006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Физическая карта полушар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rcRect l="2355" t="4329" r="50566" b="6222"/>
          <a:stretch/>
        </p:blipFill>
        <p:spPr>
          <a:xfrm>
            <a:off x="0" y="914400"/>
            <a:ext cx="4572000" cy="47242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80880" y="5791320"/>
            <a:ext cx="3124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ападное полушар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562720" y="5791320"/>
            <a:ext cx="3200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осточное полушар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048120" y="457200"/>
            <a:ext cx="32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еверный полю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362320" y="838080"/>
            <a:ext cx="761760" cy="152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19920" y="838080"/>
            <a:ext cx="761760" cy="152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971800" y="5562720"/>
            <a:ext cx="32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Южный полю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2285640" y="5486400"/>
            <a:ext cx="1066680" cy="380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5791320" y="5486400"/>
            <a:ext cx="99036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3265560"/>
            <a:ext cx="8991720" cy="759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3048120"/>
            <a:ext cx="1676520" cy="520560"/>
          </a:xfrm>
          <a:prstGeom prst="rect">
            <a:avLst/>
          </a:prstGeom>
          <a:solidFill>
            <a:srgbClr val="efd1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эквато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2000"/>
                            </p:stCondLst>
                            <p:childTnLst>
                              <p:par>
                                <p:cTn id="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3000"/>
                            </p:stCondLst>
                            <p:childTnLst>
                              <p:par>
                                <p:cTn id="14" nodeType="afterEffect" fill="hold" presetClass="emph" presetID="35" repeatCount="2000">
                                  <p:stCondLst>
                                    <p:cond delay="1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6500"/>
                            </p:stCondLst>
                            <p:childTnLst>
                              <p:par>
                                <p:cTn id="1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7500"/>
                            </p:stCondLst>
                            <p:childTnLst>
                              <p:par>
                                <p:cTn id="23" nodeType="afterEffect" fill="hold" presetClass="entr" presetID="5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0000"/>
                            </p:stCondLst>
                            <p:childTnLst>
                              <p:par>
                                <p:cTn id="2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0500"/>
                            </p:stCondLst>
                            <p:childTnLst>
                              <p:par>
                                <p:cTn id="36" nodeType="afterEffect" fill="hold" presetClass="entr" presetID="5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3000"/>
                            </p:stCondLst>
                            <p:childTnLst>
                              <p:par>
                                <p:cTn id="42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3500"/>
                            </p:stCondLst>
                            <p:childTnLst>
                              <p:par>
                                <p:cTn id="49" nodeType="afterEffect" fill="hold" presetClass="entr" presetID="18" presetSubtype="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1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d1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rcRect l="49584" t="4329" r="3335" b="4779"/>
          <a:stretch/>
        </p:blipFill>
        <p:spPr>
          <a:xfrm>
            <a:off x="4572000" y="609480"/>
            <a:ext cx="4572000" cy="48006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Матер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rcRect l="2499" t="4329" r="50418" b="4779"/>
          <a:stretch/>
        </p:blipFill>
        <p:spPr>
          <a:xfrm>
            <a:off x="0" y="609480"/>
            <a:ext cx="4572000" cy="48006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1400040" y="1033560"/>
            <a:ext cx="1981440" cy="17240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533520" y="5410080"/>
            <a:ext cx="35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еверная Амер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2971800" y="2590920"/>
            <a:ext cx="1317600" cy="19810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533520" y="5791320"/>
            <a:ext cx="35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Южная Амер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1501920" y="4805280"/>
            <a:ext cx="1469880" cy="3873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6"/>
          <a:stretch/>
        </p:blipFill>
        <p:spPr>
          <a:xfrm>
            <a:off x="6172200" y="4670280"/>
            <a:ext cx="1447920" cy="5684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533520" y="6172200"/>
            <a:ext cx="289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Антаркти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7"/>
          <a:stretch/>
        </p:blipFill>
        <p:spPr>
          <a:xfrm>
            <a:off x="5160960" y="762120"/>
            <a:ext cx="3048120" cy="22287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5943600" y="541008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Евраз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8"/>
          <a:stretch/>
        </p:blipFill>
        <p:spPr>
          <a:xfrm>
            <a:off x="4660920" y="1806480"/>
            <a:ext cx="1654200" cy="221472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5943600" y="579132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Афр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9"/>
          <a:stretch/>
        </p:blipFill>
        <p:spPr>
          <a:xfrm>
            <a:off x="7761240" y="3352680"/>
            <a:ext cx="925560" cy="95256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5943600" y="617220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Австрал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000"/>
                            </p:stCondLst>
                            <p:childTnLst>
                              <p:par>
                                <p:cTn id="6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2000"/>
                            </p:stCondLst>
                            <p:childTnLst>
                              <p:par>
                                <p:cTn id="73" nodeType="afterEffect" fill="hold" presetClass="entr" presetID="5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4500"/>
                            </p:stCondLst>
                            <p:childTnLst>
                              <p:par>
                                <p:cTn id="7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5500"/>
                            </p:stCondLst>
                            <p:childTnLst>
                              <p:par>
                                <p:cTn id="85" nodeType="afterEffect" fill="hold" presetClass="entr" presetID="5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5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8000"/>
                            </p:stCondLst>
                            <p:childTnLst>
                              <p:par>
                                <p:cTn id="9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9000"/>
                            </p:stCondLst>
                            <p:childTnLst>
                              <p:par>
                                <p:cTn id="102" nodeType="afterEffect" fill="hold" presetClass="entr" presetID="5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12000"/>
                            </p:stCondLst>
                            <p:childTnLst>
                              <p:par>
                                <p:cTn id="10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3000"/>
                            </p:stCondLst>
                            <p:childTnLst>
                              <p:par>
                                <p:cTn id="114" nodeType="afterEffect" fill="hold" presetClass="entr" presetID="5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5500"/>
                            </p:stCondLst>
                            <p:childTnLst>
                              <p:par>
                                <p:cTn id="12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6500"/>
                            </p:stCondLst>
                            <p:childTnLst>
                              <p:par>
                                <p:cTn id="126" nodeType="afterEffect" fill="hold" presetClass="entr" presetID="5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9000"/>
                            </p:stCondLst>
                            <p:childTnLst>
                              <p:par>
                                <p:cTn id="13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d1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6553080" y="6095880"/>
            <a:ext cx="1905120" cy="5223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5029200" y="4572000"/>
            <a:ext cx="1447920" cy="13716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584280" y="4137120"/>
            <a:ext cx="2209680" cy="213336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568440" y="4114800"/>
            <a:ext cx="2232000" cy="2176560"/>
          </a:xfrm>
          <a:custGeom>
            <a:avLst/>
            <a:gdLst/>
            <a:ahLst/>
            <a:rect l="l" t="t" r="r" b="b"/>
            <a:pathLst>
              <a:path w="4046" h="3531">
                <a:moveTo>
                  <a:pt x="2655" y="30"/>
                </a:moveTo>
                <a:cubicBezTo>
                  <a:pt x="2643" y="32"/>
                  <a:pt x="2628" y="28"/>
                  <a:pt x="2620" y="37"/>
                </a:cubicBezTo>
                <a:cubicBezTo>
                  <a:pt x="2611" y="48"/>
                  <a:pt x="2626" y="75"/>
                  <a:pt x="2613" y="79"/>
                </a:cubicBezTo>
                <a:cubicBezTo>
                  <a:pt x="2568" y="94"/>
                  <a:pt x="2519" y="84"/>
                  <a:pt x="2472" y="86"/>
                </a:cubicBezTo>
                <a:cubicBezTo>
                  <a:pt x="2398" y="307"/>
                  <a:pt x="2589" y="230"/>
                  <a:pt x="2219" y="241"/>
                </a:cubicBezTo>
                <a:cubicBezTo>
                  <a:pt x="2148" y="289"/>
                  <a:pt x="2197" y="276"/>
                  <a:pt x="2163" y="248"/>
                </a:cubicBezTo>
                <a:cubicBezTo>
                  <a:pt x="2157" y="243"/>
                  <a:pt x="2149" y="243"/>
                  <a:pt x="2142" y="241"/>
                </a:cubicBezTo>
                <a:cubicBezTo>
                  <a:pt x="2097" y="107"/>
                  <a:pt x="1943" y="126"/>
                  <a:pt x="1833" y="122"/>
                </a:cubicBezTo>
                <a:cubicBezTo>
                  <a:pt x="1811" y="98"/>
                  <a:pt x="1786" y="82"/>
                  <a:pt x="1756" y="72"/>
                </a:cubicBezTo>
                <a:cubicBezTo>
                  <a:pt x="1707" y="88"/>
                  <a:pt x="1724" y="143"/>
                  <a:pt x="1720" y="192"/>
                </a:cubicBezTo>
                <a:cubicBezTo>
                  <a:pt x="1580" y="190"/>
                  <a:pt x="1439" y="189"/>
                  <a:pt x="1299" y="185"/>
                </a:cubicBezTo>
                <a:cubicBezTo>
                  <a:pt x="1261" y="184"/>
                  <a:pt x="1254" y="133"/>
                  <a:pt x="1215" y="129"/>
                </a:cubicBezTo>
                <a:cubicBezTo>
                  <a:pt x="1189" y="127"/>
                  <a:pt x="1163" y="124"/>
                  <a:pt x="1137" y="122"/>
                </a:cubicBezTo>
                <a:cubicBezTo>
                  <a:pt x="1127" y="111"/>
                  <a:pt x="1120" y="96"/>
                  <a:pt x="1109" y="86"/>
                </a:cubicBezTo>
                <a:cubicBezTo>
                  <a:pt x="1109" y="86"/>
                  <a:pt x="1057" y="51"/>
                  <a:pt x="1046" y="44"/>
                </a:cubicBezTo>
                <a:cubicBezTo>
                  <a:pt x="1046" y="44"/>
                  <a:pt x="994" y="27"/>
                  <a:pt x="983" y="23"/>
                </a:cubicBezTo>
                <a:cubicBezTo>
                  <a:pt x="976" y="21"/>
                  <a:pt x="962" y="16"/>
                  <a:pt x="962" y="16"/>
                </a:cubicBezTo>
                <a:cubicBezTo>
                  <a:pt x="869" y="24"/>
                  <a:pt x="770" y="0"/>
                  <a:pt x="681" y="30"/>
                </a:cubicBezTo>
                <a:cubicBezTo>
                  <a:pt x="661" y="37"/>
                  <a:pt x="693" y="83"/>
                  <a:pt x="674" y="93"/>
                </a:cubicBezTo>
                <a:cubicBezTo>
                  <a:pt x="639" y="112"/>
                  <a:pt x="594" y="98"/>
                  <a:pt x="554" y="100"/>
                </a:cubicBezTo>
                <a:cubicBezTo>
                  <a:pt x="547" y="318"/>
                  <a:pt x="608" y="308"/>
                  <a:pt x="470" y="325"/>
                </a:cubicBezTo>
                <a:cubicBezTo>
                  <a:pt x="457" y="375"/>
                  <a:pt x="443" y="353"/>
                  <a:pt x="400" y="367"/>
                </a:cubicBezTo>
                <a:cubicBezTo>
                  <a:pt x="363" y="481"/>
                  <a:pt x="415" y="310"/>
                  <a:pt x="379" y="501"/>
                </a:cubicBezTo>
                <a:cubicBezTo>
                  <a:pt x="377" y="509"/>
                  <a:pt x="373" y="520"/>
                  <a:pt x="365" y="522"/>
                </a:cubicBezTo>
                <a:cubicBezTo>
                  <a:pt x="335" y="530"/>
                  <a:pt x="304" y="527"/>
                  <a:pt x="273" y="529"/>
                </a:cubicBezTo>
                <a:cubicBezTo>
                  <a:pt x="259" y="534"/>
                  <a:pt x="239" y="531"/>
                  <a:pt x="231" y="543"/>
                </a:cubicBezTo>
                <a:cubicBezTo>
                  <a:pt x="222" y="557"/>
                  <a:pt x="219" y="580"/>
                  <a:pt x="203" y="585"/>
                </a:cubicBezTo>
                <a:cubicBezTo>
                  <a:pt x="189" y="590"/>
                  <a:pt x="161" y="599"/>
                  <a:pt x="161" y="599"/>
                </a:cubicBezTo>
                <a:cubicBezTo>
                  <a:pt x="149" y="634"/>
                  <a:pt x="103" y="645"/>
                  <a:pt x="70" y="662"/>
                </a:cubicBezTo>
                <a:cubicBezTo>
                  <a:pt x="49" y="673"/>
                  <a:pt x="34" y="692"/>
                  <a:pt x="14" y="705"/>
                </a:cubicBezTo>
                <a:cubicBezTo>
                  <a:pt x="16" y="726"/>
                  <a:pt x="0" y="764"/>
                  <a:pt x="21" y="768"/>
                </a:cubicBezTo>
                <a:cubicBezTo>
                  <a:pt x="149" y="794"/>
                  <a:pt x="287" y="758"/>
                  <a:pt x="414" y="733"/>
                </a:cubicBezTo>
                <a:cubicBezTo>
                  <a:pt x="425" y="699"/>
                  <a:pt x="464" y="673"/>
                  <a:pt x="498" y="662"/>
                </a:cubicBezTo>
                <a:cubicBezTo>
                  <a:pt x="505" y="667"/>
                  <a:pt x="511" y="676"/>
                  <a:pt x="519" y="676"/>
                </a:cubicBezTo>
                <a:cubicBezTo>
                  <a:pt x="534" y="676"/>
                  <a:pt x="561" y="662"/>
                  <a:pt x="561" y="662"/>
                </a:cubicBezTo>
                <a:cubicBezTo>
                  <a:pt x="697" y="665"/>
                  <a:pt x="836" y="646"/>
                  <a:pt x="969" y="676"/>
                </a:cubicBezTo>
                <a:cubicBezTo>
                  <a:pt x="976" y="677"/>
                  <a:pt x="978" y="687"/>
                  <a:pt x="983" y="691"/>
                </a:cubicBezTo>
                <a:cubicBezTo>
                  <a:pt x="989" y="696"/>
                  <a:pt x="996" y="703"/>
                  <a:pt x="1004" y="705"/>
                </a:cubicBezTo>
                <a:cubicBezTo>
                  <a:pt x="1029" y="710"/>
                  <a:pt x="1055" y="710"/>
                  <a:pt x="1081" y="712"/>
                </a:cubicBezTo>
                <a:cubicBezTo>
                  <a:pt x="1120" y="771"/>
                  <a:pt x="1079" y="702"/>
                  <a:pt x="1109" y="852"/>
                </a:cubicBezTo>
                <a:cubicBezTo>
                  <a:pt x="1113" y="874"/>
                  <a:pt x="1166" y="887"/>
                  <a:pt x="1166" y="887"/>
                </a:cubicBezTo>
                <a:cubicBezTo>
                  <a:pt x="1221" y="924"/>
                  <a:pt x="1174" y="884"/>
                  <a:pt x="1194" y="1014"/>
                </a:cubicBezTo>
                <a:cubicBezTo>
                  <a:pt x="1198" y="1039"/>
                  <a:pt x="1250" y="1063"/>
                  <a:pt x="1250" y="1063"/>
                </a:cubicBezTo>
                <a:cubicBezTo>
                  <a:pt x="1259" y="1141"/>
                  <a:pt x="1254" y="1137"/>
                  <a:pt x="1327" y="1147"/>
                </a:cubicBezTo>
                <a:cubicBezTo>
                  <a:pt x="1344" y="1199"/>
                  <a:pt x="1328" y="1182"/>
                  <a:pt x="1369" y="1203"/>
                </a:cubicBezTo>
                <a:cubicBezTo>
                  <a:pt x="1394" y="1277"/>
                  <a:pt x="1422" y="1354"/>
                  <a:pt x="1334" y="1372"/>
                </a:cubicBezTo>
                <a:cubicBezTo>
                  <a:pt x="1345" y="1415"/>
                  <a:pt x="1368" y="1412"/>
                  <a:pt x="1383" y="1456"/>
                </a:cubicBezTo>
                <a:cubicBezTo>
                  <a:pt x="1377" y="1506"/>
                  <a:pt x="1376" y="1548"/>
                  <a:pt x="1348" y="1590"/>
                </a:cubicBezTo>
                <a:cubicBezTo>
                  <a:pt x="1344" y="1665"/>
                  <a:pt x="1344" y="1748"/>
                  <a:pt x="1320" y="1821"/>
                </a:cubicBezTo>
                <a:cubicBezTo>
                  <a:pt x="1322" y="1840"/>
                  <a:pt x="1316" y="1862"/>
                  <a:pt x="1327" y="1878"/>
                </a:cubicBezTo>
                <a:cubicBezTo>
                  <a:pt x="1334" y="1888"/>
                  <a:pt x="1354" y="1877"/>
                  <a:pt x="1362" y="1885"/>
                </a:cubicBezTo>
                <a:cubicBezTo>
                  <a:pt x="1372" y="1895"/>
                  <a:pt x="1368" y="1915"/>
                  <a:pt x="1376" y="1927"/>
                </a:cubicBezTo>
                <a:cubicBezTo>
                  <a:pt x="1397" y="1958"/>
                  <a:pt x="1400" y="1984"/>
                  <a:pt x="1439" y="1997"/>
                </a:cubicBezTo>
                <a:cubicBezTo>
                  <a:pt x="1455" y="2046"/>
                  <a:pt x="1509" y="2046"/>
                  <a:pt x="1552" y="2060"/>
                </a:cubicBezTo>
                <a:cubicBezTo>
                  <a:pt x="1562" y="2152"/>
                  <a:pt x="1564" y="2149"/>
                  <a:pt x="1657" y="2159"/>
                </a:cubicBezTo>
                <a:cubicBezTo>
                  <a:pt x="1661" y="2222"/>
                  <a:pt x="1644" y="2267"/>
                  <a:pt x="1692" y="2299"/>
                </a:cubicBezTo>
                <a:cubicBezTo>
                  <a:pt x="1697" y="2314"/>
                  <a:pt x="1708" y="2326"/>
                  <a:pt x="1713" y="2341"/>
                </a:cubicBezTo>
                <a:cubicBezTo>
                  <a:pt x="1720" y="2361"/>
                  <a:pt x="1720" y="2384"/>
                  <a:pt x="1727" y="2404"/>
                </a:cubicBezTo>
                <a:cubicBezTo>
                  <a:pt x="1726" y="2410"/>
                  <a:pt x="1701" y="2483"/>
                  <a:pt x="1720" y="2489"/>
                </a:cubicBezTo>
                <a:cubicBezTo>
                  <a:pt x="1751" y="2499"/>
                  <a:pt x="1786" y="2494"/>
                  <a:pt x="1819" y="2496"/>
                </a:cubicBezTo>
                <a:cubicBezTo>
                  <a:pt x="1821" y="2522"/>
                  <a:pt x="1822" y="2548"/>
                  <a:pt x="1826" y="2573"/>
                </a:cubicBezTo>
                <a:cubicBezTo>
                  <a:pt x="1838" y="2640"/>
                  <a:pt x="1888" y="2629"/>
                  <a:pt x="1945" y="2643"/>
                </a:cubicBezTo>
                <a:cubicBezTo>
                  <a:pt x="1947" y="2657"/>
                  <a:pt x="1944" y="2673"/>
                  <a:pt x="1952" y="2685"/>
                </a:cubicBezTo>
                <a:cubicBezTo>
                  <a:pt x="1956" y="2691"/>
                  <a:pt x="1959" y="2671"/>
                  <a:pt x="1959" y="2664"/>
                </a:cubicBezTo>
                <a:cubicBezTo>
                  <a:pt x="1959" y="2638"/>
                  <a:pt x="1956" y="2613"/>
                  <a:pt x="1952" y="2587"/>
                </a:cubicBezTo>
                <a:cubicBezTo>
                  <a:pt x="1948" y="2560"/>
                  <a:pt x="1931" y="2545"/>
                  <a:pt x="1910" y="2531"/>
                </a:cubicBezTo>
                <a:cubicBezTo>
                  <a:pt x="1902" y="2508"/>
                  <a:pt x="1883" y="2491"/>
                  <a:pt x="1875" y="2468"/>
                </a:cubicBezTo>
                <a:cubicBezTo>
                  <a:pt x="1862" y="2429"/>
                  <a:pt x="1860" y="2392"/>
                  <a:pt x="1826" y="2369"/>
                </a:cubicBezTo>
                <a:cubicBezTo>
                  <a:pt x="1819" y="2348"/>
                  <a:pt x="1812" y="2327"/>
                  <a:pt x="1805" y="2306"/>
                </a:cubicBezTo>
                <a:cubicBezTo>
                  <a:pt x="1800" y="2292"/>
                  <a:pt x="1791" y="2264"/>
                  <a:pt x="1791" y="2264"/>
                </a:cubicBezTo>
                <a:cubicBezTo>
                  <a:pt x="1798" y="2262"/>
                  <a:pt x="1805" y="2256"/>
                  <a:pt x="1812" y="2257"/>
                </a:cubicBezTo>
                <a:cubicBezTo>
                  <a:pt x="1827" y="2259"/>
                  <a:pt x="1854" y="2271"/>
                  <a:pt x="1854" y="2271"/>
                </a:cubicBezTo>
                <a:cubicBezTo>
                  <a:pt x="1864" y="2301"/>
                  <a:pt x="1864" y="2328"/>
                  <a:pt x="1882" y="2355"/>
                </a:cubicBezTo>
                <a:cubicBezTo>
                  <a:pt x="1890" y="2420"/>
                  <a:pt x="1882" y="2410"/>
                  <a:pt x="1931" y="2426"/>
                </a:cubicBezTo>
                <a:cubicBezTo>
                  <a:pt x="1942" y="2460"/>
                  <a:pt x="1982" y="2468"/>
                  <a:pt x="2015" y="2475"/>
                </a:cubicBezTo>
                <a:cubicBezTo>
                  <a:pt x="2026" y="2555"/>
                  <a:pt x="2036" y="2542"/>
                  <a:pt x="2114" y="2552"/>
                </a:cubicBezTo>
                <a:cubicBezTo>
                  <a:pt x="2151" y="2564"/>
                  <a:pt x="2138" y="2582"/>
                  <a:pt x="2149" y="2615"/>
                </a:cubicBezTo>
                <a:cubicBezTo>
                  <a:pt x="2152" y="2643"/>
                  <a:pt x="2160" y="2723"/>
                  <a:pt x="2170" y="2749"/>
                </a:cubicBezTo>
                <a:cubicBezTo>
                  <a:pt x="2173" y="2757"/>
                  <a:pt x="2184" y="2758"/>
                  <a:pt x="2191" y="2763"/>
                </a:cubicBezTo>
                <a:cubicBezTo>
                  <a:pt x="2223" y="2810"/>
                  <a:pt x="2248" y="2878"/>
                  <a:pt x="2296" y="2910"/>
                </a:cubicBezTo>
                <a:cubicBezTo>
                  <a:pt x="2337" y="2971"/>
                  <a:pt x="2373" y="2961"/>
                  <a:pt x="2444" y="2966"/>
                </a:cubicBezTo>
                <a:cubicBezTo>
                  <a:pt x="2497" y="3002"/>
                  <a:pt x="2557" y="3010"/>
                  <a:pt x="2620" y="3016"/>
                </a:cubicBezTo>
                <a:cubicBezTo>
                  <a:pt x="2646" y="3055"/>
                  <a:pt x="2671" y="3038"/>
                  <a:pt x="2711" y="3051"/>
                </a:cubicBezTo>
                <a:cubicBezTo>
                  <a:pt x="2752" y="3173"/>
                  <a:pt x="2822" y="3150"/>
                  <a:pt x="2943" y="3156"/>
                </a:cubicBezTo>
                <a:cubicBezTo>
                  <a:pt x="2956" y="3169"/>
                  <a:pt x="2963" y="3188"/>
                  <a:pt x="2978" y="3198"/>
                </a:cubicBezTo>
                <a:cubicBezTo>
                  <a:pt x="2992" y="3207"/>
                  <a:pt x="3012" y="3204"/>
                  <a:pt x="3027" y="3212"/>
                </a:cubicBezTo>
                <a:cubicBezTo>
                  <a:pt x="3032" y="3215"/>
                  <a:pt x="3083" y="3252"/>
                  <a:pt x="3097" y="3254"/>
                </a:cubicBezTo>
                <a:cubicBezTo>
                  <a:pt x="3134" y="3260"/>
                  <a:pt x="3172" y="3259"/>
                  <a:pt x="3210" y="3261"/>
                </a:cubicBezTo>
                <a:cubicBezTo>
                  <a:pt x="3217" y="3271"/>
                  <a:pt x="3222" y="3282"/>
                  <a:pt x="3231" y="3290"/>
                </a:cubicBezTo>
                <a:cubicBezTo>
                  <a:pt x="3237" y="3295"/>
                  <a:pt x="3247" y="3292"/>
                  <a:pt x="3252" y="3297"/>
                </a:cubicBezTo>
                <a:cubicBezTo>
                  <a:pt x="3334" y="3379"/>
                  <a:pt x="3241" y="3313"/>
                  <a:pt x="3301" y="3353"/>
                </a:cubicBezTo>
                <a:cubicBezTo>
                  <a:pt x="3328" y="3433"/>
                  <a:pt x="3305" y="3355"/>
                  <a:pt x="3322" y="3465"/>
                </a:cubicBezTo>
                <a:cubicBezTo>
                  <a:pt x="3323" y="3472"/>
                  <a:pt x="3322" y="3483"/>
                  <a:pt x="3329" y="3486"/>
                </a:cubicBezTo>
                <a:cubicBezTo>
                  <a:pt x="3369" y="3500"/>
                  <a:pt x="3413" y="3495"/>
                  <a:pt x="3455" y="3500"/>
                </a:cubicBezTo>
                <a:cubicBezTo>
                  <a:pt x="3494" y="3512"/>
                  <a:pt x="3535" y="3520"/>
                  <a:pt x="3575" y="3528"/>
                </a:cubicBezTo>
                <a:cubicBezTo>
                  <a:pt x="3587" y="3526"/>
                  <a:pt x="3604" y="3531"/>
                  <a:pt x="3610" y="3521"/>
                </a:cubicBezTo>
                <a:cubicBezTo>
                  <a:pt x="3635" y="3478"/>
                  <a:pt x="3543" y="3453"/>
                  <a:pt x="3519" y="3437"/>
                </a:cubicBezTo>
                <a:cubicBezTo>
                  <a:pt x="3501" y="3384"/>
                  <a:pt x="3527" y="3447"/>
                  <a:pt x="3491" y="3402"/>
                </a:cubicBezTo>
                <a:cubicBezTo>
                  <a:pt x="3464" y="3368"/>
                  <a:pt x="3510" y="3389"/>
                  <a:pt x="3462" y="3374"/>
                </a:cubicBezTo>
                <a:cubicBezTo>
                  <a:pt x="3438" y="3301"/>
                  <a:pt x="3452" y="3264"/>
                  <a:pt x="3441" y="3170"/>
                </a:cubicBezTo>
                <a:cubicBezTo>
                  <a:pt x="3434" y="3114"/>
                  <a:pt x="3243" y="3121"/>
                  <a:pt x="3238" y="3121"/>
                </a:cubicBezTo>
                <a:cubicBezTo>
                  <a:pt x="3212" y="3112"/>
                  <a:pt x="3194" y="3098"/>
                  <a:pt x="3174" y="3079"/>
                </a:cubicBezTo>
                <a:cubicBezTo>
                  <a:pt x="3159" y="3034"/>
                  <a:pt x="3158" y="3014"/>
                  <a:pt x="3174" y="2966"/>
                </a:cubicBezTo>
                <a:cubicBezTo>
                  <a:pt x="3170" y="2893"/>
                  <a:pt x="3177" y="2841"/>
                  <a:pt x="3139" y="2784"/>
                </a:cubicBezTo>
                <a:cubicBezTo>
                  <a:pt x="3038" y="2795"/>
                  <a:pt x="3063" y="2803"/>
                  <a:pt x="3055" y="2917"/>
                </a:cubicBezTo>
                <a:cubicBezTo>
                  <a:pt x="3006" y="2915"/>
                  <a:pt x="2957" y="2916"/>
                  <a:pt x="2908" y="2910"/>
                </a:cubicBezTo>
                <a:cubicBezTo>
                  <a:pt x="2891" y="2908"/>
                  <a:pt x="2860" y="2883"/>
                  <a:pt x="2844" y="2875"/>
                </a:cubicBezTo>
                <a:cubicBezTo>
                  <a:pt x="2784" y="2845"/>
                  <a:pt x="2718" y="2821"/>
                  <a:pt x="2662" y="2784"/>
                </a:cubicBezTo>
                <a:cubicBezTo>
                  <a:pt x="2651" y="2751"/>
                  <a:pt x="2645" y="2718"/>
                  <a:pt x="2634" y="2685"/>
                </a:cubicBezTo>
                <a:cubicBezTo>
                  <a:pt x="2642" y="2490"/>
                  <a:pt x="2594" y="2507"/>
                  <a:pt x="2718" y="2482"/>
                </a:cubicBezTo>
                <a:cubicBezTo>
                  <a:pt x="2781" y="2294"/>
                  <a:pt x="2625" y="2359"/>
                  <a:pt x="2936" y="2348"/>
                </a:cubicBezTo>
                <a:cubicBezTo>
                  <a:pt x="2968" y="2340"/>
                  <a:pt x="3027" y="2332"/>
                  <a:pt x="3055" y="2313"/>
                </a:cubicBezTo>
                <a:cubicBezTo>
                  <a:pt x="3082" y="2295"/>
                  <a:pt x="3068" y="2302"/>
                  <a:pt x="3097" y="2292"/>
                </a:cubicBezTo>
                <a:cubicBezTo>
                  <a:pt x="3135" y="2294"/>
                  <a:pt x="3172" y="2297"/>
                  <a:pt x="3210" y="2299"/>
                </a:cubicBezTo>
                <a:cubicBezTo>
                  <a:pt x="3252" y="2301"/>
                  <a:pt x="3296" y="2292"/>
                  <a:pt x="3336" y="2306"/>
                </a:cubicBezTo>
                <a:cubicBezTo>
                  <a:pt x="3350" y="2311"/>
                  <a:pt x="3350" y="2348"/>
                  <a:pt x="3350" y="2348"/>
                </a:cubicBezTo>
                <a:cubicBezTo>
                  <a:pt x="3358" y="2415"/>
                  <a:pt x="3364" y="2447"/>
                  <a:pt x="3434" y="2461"/>
                </a:cubicBezTo>
                <a:cubicBezTo>
                  <a:pt x="3439" y="2468"/>
                  <a:pt x="3446" y="2474"/>
                  <a:pt x="3448" y="2482"/>
                </a:cubicBezTo>
                <a:cubicBezTo>
                  <a:pt x="3453" y="2505"/>
                  <a:pt x="3440" y="2534"/>
                  <a:pt x="3455" y="2552"/>
                </a:cubicBezTo>
                <a:cubicBezTo>
                  <a:pt x="3464" y="2563"/>
                  <a:pt x="3484" y="2547"/>
                  <a:pt x="3498" y="2545"/>
                </a:cubicBezTo>
                <a:cubicBezTo>
                  <a:pt x="3495" y="2498"/>
                  <a:pt x="3519" y="2408"/>
                  <a:pt x="3462" y="2390"/>
                </a:cubicBezTo>
                <a:cubicBezTo>
                  <a:pt x="3455" y="2369"/>
                  <a:pt x="3448" y="2348"/>
                  <a:pt x="3441" y="2327"/>
                </a:cubicBezTo>
                <a:cubicBezTo>
                  <a:pt x="3439" y="2320"/>
                  <a:pt x="3434" y="2306"/>
                  <a:pt x="3434" y="2306"/>
                </a:cubicBezTo>
                <a:cubicBezTo>
                  <a:pt x="3444" y="1993"/>
                  <a:pt x="3375" y="2127"/>
                  <a:pt x="3533" y="2074"/>
                </a:cubicBezTo>
                <a:cubicBezTo>
                  <a:pt x="3573" y="2015"/>
                  <a:pt x="3594" y="1916"/>
                  <a:pt x="3526" y="1871"/>
                </a:cubicBezTo>
                <a:cubicBezTo>
                  <a:pt x="3521" y="1857"/>
                  <a:pt x="3517" y="1842"/>
                  <a:pt x="3512" y="1828"/>
                </a:cubicBezTo>
                <a:cubicBezTo>
                  <a:pt x="3510" y="1821"/>
                  <a:pt x="3505" y="1807"/>
                  <a:pt x="3505" y="1807"/>
                </a:cubicBezTo>
                <a:cubicBezTo>
                  <a:pt x="3527" y="1742"/>
                  <a:pt x="3490" y="1831"/>
                  <a:pt x="3624" y="1779"/>
                </a:cubicBezTo>
                <a:cubicBezTo>
                  <a:pt x="3638" y="1774"/>
                  <a:pt x="3638" y="1737"/>
                  <a:pt x="3638" y="1737"/>
                </a:cubicBezTo>
                <a:cubicBezTo>
                  <a:pt x="3640" y="1714"/>
                  <a:pt x="3640" y="1690"/>
                  <a:pt x="3645" y="1667"/>
                </a:cubicBezTo>
                <a:cubicBezTo>
                  <a:pt x="3647" y="1659"/>
                  <a:pt x="3652" y="1651"/>
                  <a:pt x="3659" y="1646"/>
                </a:cubicBezTo>
                <a:cubicBezTo>
                  <a:pt x="3667" y="1641"/>
                  <a:pt x="3678" y="1642"/>
                  <a:pt x="3687" y="1639"/>
                </a:cubicBezTo>
                <a:cubicBezTo>
                  <a:pt x="3719" y="1629"/>
                  <a:pt x="3741" y="1614"/>
                  <a:pt x="3772" y="1604"/>
                </a:cubicBezTo>
                <a:cubicBezTo>
                  <a:pt x="3769" y="1564"/>
                  <a:pt x="3747" y="1447"/>
                  <a:pt x="3779" y="1407"/>
                </a:cubicBezTo>
                <a:cubicBezTo>
                  <a:pt x="3794" y="1388"/>
                  <a:pt x="3803" y="1396"/>
                  <a:pt x="3821" y="1386"/>
                </a:cubicBezTo>
                <a:cubicBezTo>
                  <a:pt x="3836" y="1378"/>
                  <a:pt x="3863" y="1358"/>
                  <a:pt x="3863" y="1358"/>
                </a:cubicBezTo>
                <a:cubicBezTo>
                  <a:pt x="3877" y="1360"/>
                  <a:pt x="3896" y="1354"/>
                  <a:pt x="3905" y="1365"/>
                </a:cubicBezTo>
                <a:cubicBezTo>
                  <a:pt x="3913" y="1374"/>
                  <a:pt x="3902" y="1389"/>
                  <a:pt x="3898" y="1400"/>
                </a:cubicBezTo>
                <a:cubicBezTo>
                  <a:pt x="3895" y="1408"/>
                  <a:pt x="3876" y="1419"/>
                  <a:pt x="3884" y="1421"/>
                </a:cubicBezTo>
                <a:cubicBezTo>
                  <a:pt x="3912" y="1427"/>
                  <a:pt x="3940" y="1416"/>
                  <a:pt x="3968" y="1414"/>
                </a:cubicBezTo>
                <a:cubicBezTo>
                  <a:pt x="3990" y="1407"/>
                  <a:pt x="3992" y="1411"/>
                  <a:pt x="4003" y="1386"/>
                </a:cubicBezTo>
                <a:cubicBezTo>
                  <a:pt x="4007" y="1377"/>
                  <a:pt x="4003" y="1364"/>
                  <a:pt x="4010" y="1358"/>
                </a:cubicBezTo>
                <a:cubicBezTo>
                  <a:pt x="4019" y="1350"/>
                  <a:pt x="4034" y="1353"/>
                  <a:pt x="4046" y="1351"/>
                </a:cubicBezTo>
                <a:cubicBezTo>
                  <a:pt x="4043" y="1342"/>
                  <a:pt x="4044" y="1330"/>
                  <a:pt x="4038" y="1323"/>
                </a:cubicBezTo>
                <a:cubicBezTo>
                  <a:pt x="4033" y="1317"/>
                  <a:pt x="4023" y="1320"/>
                  <a:pt x="4017" y="1316"/>
                </a:cubicBezTo>
                <a:cubicBezTo>
                  <a:pt x="4002" y="1308"/>
                  <a:pt x="3991" y="1293"/>
                  <a:pt x="3975" y="1288"/>
                </a:cubicBezTo>
                <a:cubicBezTo>
                  <a:pt x="3947" y="1279"/>
                  <a:pt x="3919" y="1270"/>
                  <a:pt x="3891" y="1259"/>
                </a:cubicBezTo>
                <a:cubicBezTo>
                  <a:pt x="3872" y="1230"/>
                  <a:pt x="3861" y="1203"/>
                  <a:pt x="3842" y="1175"/>
                </a:cubicBezTo>
                <a:cubicBezTo>
                  <a:pt x="3847" y="1161"/>
                  <a:pt x="3851" y="1147"/>
                  <a:pt x="3856" y="1133"/>
                </a:cubicBezTo>
                <a:cubicBezTo>
                  <a:pt x="3858" y="1126"/>
                  <a:pt x="3863" y="1112"/>
                  <a:pt x="3863" y="1112"/>
                </a:cubicBezTo>
                <a:cubicBezTo>
                  <a:pt x="3865" y="1096"/>
                  <a:pt x="3863" y="1078"/>
                  <a:pt x="3870" y="1063"/>
                </a:cubicBezTo>
                <a:cubicBezTo>
                  <a:pt x="3879" y="1042"/>
                  <a:pt x="3933" y="1035"/>
                  <a:pt x="3933" y="1035"/>
                </a:cubicBezTo>
                <a:cubicBezTo>
                  <a:pt x="3935" y="1028"/>
                  <a:pt x="3940" y="1021"/>
                  <a:pt x="3940" y="1014"/>
                </a:cubicBezTo>
                <a:cubicBezTo>
                  <a:pt x="3940" y="974"/>
                  <a:pt x="3939" y="934"/>
                  <a:pt x="3933" y="894"/>
                </a:cubicBezTo>
                <a:cubicBezTo>
                  <a:pt x="3930" y="872"/>
                  <a:pt x="3886" y="851"/>
                  <a:pt x="3877" y="845"/>
                </a:cubicBezTo>
                <a:cubicBezTo>
                  <a:pt x="3825" y="810"/>
                  <a:pt x="3761" y="803"/>
                  <a:pt x="3708" y="768"/>
                </a:cubicBezTo>
                <a:cubicBezTo>
                  <a:pt x="3703" y="761"/>
                  <a:pt x="3700" y="753"/>
                  <a:pt x="3694" y="747"/>
                </a:cubicBezTo>
                <a:cubicBezTo>
                  <a:pt x="3688" y="741"/>
                  <a:pt x="3678" y="740"/>
                  <a:pt x="3673" y="733"/>
                </a:cubicBezTo>
                <a:cubicBezTo>
                  <a:pt x="3668" y="727"/>
                  <a:pt x="3671" y="718"/>
                  <a:pt x="3666" y="712"/>
                </a:cubicBezTo>
                <a:cubicBezTo>
                  <a:pt x="3656" y="700"/>
                  <a:pt x="3638" y="696"/>
                  <a:pt x="3624" y="691"/>
                </a:cubicBezTo>
                <a:cubicBezTo>
                  <a:pt x="3584" y="648"/>
                  <a:pt x="3639" y="702"/>
                  <a:pt x="3589" y="669"/>
                </a:cubicBezTo>
                <a:cubicBezTo>
                  <a:pt x="3581" y="664"/>
                  <a:pt x="3577" y="653"/>
                  <a:pt x="3568" y="648"/>
                </a:cubicBezTo>
                <a:cubicBezTo>
                  <a:pt x="3555" y="641"/>
                  <a:pt x="3538" y="642"/>
                  <a:pt x="3526" y="634"/>
                </a:cubicBezTo>
                <a:cubicBezTo>
                  <a:pt x="3512" y="625"/>
                  <a:pt x="3498" y="615"/>
                  <a:pt x="3484" y="606"/>
                </a:cubicBezTo>
                <a:cubicBezTo>
                  <a:pt x="3470" y="597"/>
                  <a:pt x="3457" y="583"/>
                  <a:pt x="3441" y="578"/>
                </a:cubicBezTo>
                <a:cubicBezTo>
                  <a:pt x="3427" y="573"/>
                  <a:pt x="3399" y="564"/>
                  <a:pt x="3399" y="564"/>
                </a:cubicBezTo>
                <a:cubicBezTo>
                  <a:pt x="3406" y="603"/>
                  <a:pt x="3425" y="652"/>
                  <a:pt x="3406" y="691"/>
                </a:cubicBezTo>
                <a:cubicBezTo>
                  <a:pt x="3402" y="700"/>
                  <a:pt x="3387" y="696"/>
                  <a:pt x="3378" y="698"/>
                </a:cubicBezTo>
                <a:cubicBezTo>
                  <a:pt x="3355" y="696"/>
                  <a:pt x="3330" y="698"/>
                  <a:pt x="3308" y="691"/>
                </a:cubicBezTo>
                <a:cubicBezTo>
                  <a:pt x="3292" y="686"/>
                  <a:pt x="3266" y="662"/>
                  <a:pt x="3266" y="662"/>
                </a:cubicBezTo>
                <a:cubicBezTo>
                  <a:pt x="3253" y="643"/>
                  <a:pt x="3257" y="612"/>
                  <a:pt x="3238" y="599"/>
                </a:cubicBezTo>
                <a:cubicBezTo>
                  <a:pt x="3165" y="550"/>
                  <a:pt x="3169" y="564"/>
                  <a:pt x="3055" y="557"/>
                </a:cubicBezTo>
                <a:cubicBezTo>
                  <a:pt x="2995" y="577"/>
                  <a:pt x="3046" y="682"/>
                  <a:pt x="3055" y="733"/>
                </a:cubicBezTo>
                <a:cubicBezTo>
                  <a:pt x="3060" y="761"/>
                  <a:pt x="3069" y="817"/>
                  <a:pt x="3069" y="817"/>
                </a:cubicBezTo>
                <a:cubicBezTo>
                  <a:pt x="3067" y="883"/>
                  <a:pt x="3085" y="952"/>
                  <a:pt x="3062" y="1014"/>
                </a:cubicBezTo>
                <a:cubicBezTo>
                  <a:pt x="3055" y="1034"/>
                  <a:pt x="3019" y="1015"/>
                  <a:pt x="2999" y="1007"/>
                </a:cubicBezTo>
                <a:cubicBezTo>
                  <a:pt x="2995" y="1006"/>
                  <a:pt x="2967" y="951"/>
                  <a:pt x="2957" y="943"/>
                </a:cubicBezTo>
                <a:cubicBezTo>
                  <a:pt x="2931" y="922"/>
                  <a:pt x="2891" y="932"/>
                  <a:pt x="2858" y="929"/>
                </a:cubicBezTo>
                <a:cubicBezTo>
                  <a:pt x="2781" y="903"/>
                  <a:pt x="2704" y="878"/>
                  <a:pt x="2627" y="852"/>
                </a:cubicBezTo>
                <a:cubicBezTo>
                  <a:pt x="2619" y="849"/>
                  <a:pt x="2597" y="831"/>
                  <a:pt x="2591" y="824"/>
                </a:cubicBezTo>
                <a:cubicBezTo>
                  <a:pt x="2581" y="811"/>
                  <a:pt x="2563" y="782"/>
                  <a:pt x="2563" y="782"/>
                </a:cubicBezTo>
                <a:cubicBezTo>
                  <a:pt x="2565" y="721"/>
                  <a:pt x="2519" y="578"/>
                  <a:pt x="2606" y="550"/>
                </a:cubicBezTo>
                <a:cubicBezTo>
                  <a:pt x="2634" y="508"/>
                  <a:pt x="2661" y="462"/>
                  <a:pt x="2711" y="445"/>
                </a:cubicBezTo>
                <a:cubicBezTo>
                  <a:pt x="2734" y="377"/>
                  <a:pt x="2738" y="377"/>
                  <a:pt x="2816" y="367"/>
                </a:cubicBezTo>
                <a:cubicBezTo>
                  <a:pt x="2805" y="335"/>
                  <a:pt x="2795" y="343"/>
                  <a:pt x="2767" y="325"/>
                </a:cubicBezTo>
                <a:cubicBezTo>
                  <a:pt x="2796" y="237"/>
                  <a:pt x="2742" y="259"/>
                  <a:pt x="2879" y="269"/>
                </a:cubicBezTo>
                <a:cubicBezTo>
                  <a:pt x="2895" y="316"/>
                  <a:pt x="2858" y="383"/>
                  <a:pt x="2894" y="417"/>
                </a:cubicBezTo>
                <a:cubicBezTo>
                  <a:pt x="2926" y="448"/>
                  <a:pt x="2983" y="421"/>
                  <a:pt x="3027" y="424"/>
                </a:cubicBezTo>
                <a:cubicBezTo>
                  <a:pt x="3060" y="426"/>
                  <a:pt x="3092" y="429"/>
                  <a:pt x="3125" y="431"/>
                </a:cubicBezTo>
                <a:cubicBezTo>
                  <a:pt x="3148" y="447"/>
                  <a:pt x="3169" y="467"/>
                  <a:pt x="3203" y="438"/>
                </a:cubicBezTo>
                <a:cubicBezTo>
                  <a:pt x="3212" y="430"/>
                  <a:pt x="3202" y="413"/>
                  <a:pt x="3196" y="403"/>
                </a:cubicBezTo>
                <a:cubicBezTo>
                  <a:pt x="3184" y="383"/>
                  <a:pt x="3132" y="374"/>
                  <a:pt x="3132" y="374"/>
                </a:cubicBezTo>
                <a:cubicBezTo>
                  <a:pt x="3155" y="359"/>
                  <a:pt x="3177" y="355"/>
                  <a:pt x="3203" y="346"/>
                </a:cubicBezTo>
                <a:cubicBezTo>
                  <a:pt x="3210" y="326"/>
                  <a:pt x="3218" y="313"/>
                  <a:pt x="3203" y="290"/>
                </a:cubicBezTo>
                <a:cubicBezTo>
                  <a:pt x="3199" y="284"/>
                  <a:pt x="3188" y="287"/>
                  <a:pt x="3182" y="283"/>
                </a:cubicBezTo>
                <a:cubicBezTo>
                  <a:pt x="3167" y="275"/>
                  <a:pt x="3153" y="264"/>
                  <a:pt x="3139" y="255"/>
                </a:cubicBezTo>
                <a:cubicBezTo>
                  <a:pt x="3090" y="223"/>
                  <a:pt x="3034" y="204"/>
                  <a:pt x="2985" y="171"/>
                </a:cubicBezTo>
                <a:cubicBezTo>
                  <a:pt x="2947" y="114"/>
                  <a:pt x="2850" y="106"/>
                  <a:pt x="2788" y="100"/>
                </a:cubicBezTo>
                <a:cubicBezTo>
                  <a:pt x="2750" y="87"/>
                  <a:pt x="2718" y="74"/>
                  <a:pt x="2683" y="58"/>
                </a:cubicBezTo>
                <a:cubicBezTo>
                  <a:pt x="2670" y="52"/>
                  <a:pt x="2631" y="54"/>
                  <a:pt x="2641" y="44"/>
                </a:cubicBezTo>
                <a:cubicBezTo>
                  <a:pt x="2646" y="39"/>
                  <a:pt x="2650" y="35"/>
                  <a:pt x="2655" y="30"/>
                </a:cubicBezTo>
                <a:close/>
              </a:path>
            </a:pathLst>
          </a:custGeom>
          <a:solidFill>
            <a:srgbClr val="808080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3178080" y="4659480"/>
            <a:ext cx="1393920" cy="20574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5"/>
          <a:stretch/>
        </p:blipFill>
        <p:spPr>
          <a:xfrm>
            <a:off x="3200400" y="692280"/>
            <a:ext cx="5791320" cy="35766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6"/>
          <a:stretch/>
        </p:blipFill>
        <p:spPr>
          <a:xfrm>
            <a:off x="665280" y="1447920"/>
            <a:ext cx="1849320" cy="25034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5029200" y="4572000"/>
            <a:ext cx="1447920" cy="1447920"/>
          </a:xfrm>
          <a:custGeom>
            <a:avLst/>
            <a:gdLst/>
            <a:ahLst/>
            <a:rect l="l" t="t" r="r" b="b"/>
            <a:pathLst>
              <a:path w="3053" h="3348">
                <a:moveTo>
                  <a:pt x="2377" y="208"/>
                </a:moveTo>
                <a:cubicBezTo>
                  <a:pt x="2366" y="166"/>
                  <a:pt x="2373" y="189"/>
                  <a:pt x="2356" y="138"/>
                </a:cubicBezTo>
                <a:cubicBezTo>
                  <a:pt x="2353" y="128"/>
                  <a:pt x="2322" y="119"/>
                  <a:pt x="2314" y="117"/>
                </a:cubicBezTo>
                <a:cubicBezTo>
                  <a:pt x="2264" y="103"/>
                  <a:pt x="2261" y="108"/>
                  <a:pt x="2187" y="103"/>
                </a:cubicBezTo>
                <a:cubicBezTo>
                  <a:pt x="2154" y="92"/>
                  <a:pt x="2131" y="86"/>
                  <a:pt x="2103" y="68"/>
                </a:cubicBezTo>
                <a:cubicBezTo>
                  <a:pt x="2101" y="61"/>
                  <a:pt x="2101" y="51"/>
                  <a:pt x="2096" y="46"/>
                </a:cubicBezTo>
                <a:cubicBezTo>
                  <a:pt x="2084" y="34"/>
                  <a:pt x="2054" y="18"/>
                  <a:pt x="2054" y="18"/>
                </a:cubicBezTo>
                <a:cubicBezTo>
                  <a:pt x="2024" y="28"/>
                  <a:pt x="2001" y="56"/>
                  <a:pt x="1969" y="60"/>
                </a:cubicBezTo>
                <a:cubicBezTo>
                  <a:pt x="1936" y="64"/>
                  <a:pt x="1904" y="65"/>
                  <a:pt x="1871" y="68"/>
                </a:cubicBezTo>
                <a:cubicBezTo>
                  <a:pt x="1857" y="73"/>
                  <a:pt x="1843" y="77"/>
                  <a:pt x="1829" y="82"/>
                </a:cubicBezTo>
                <a:cubicBezTo>
                  <a:pt x="1822" y="84"/>
                  <a:pt x="1825" y="96"/>
                  <a:pt x="1822" y="103"/>
                </a:cubicBezTo>
                <a:cubicBezTo>
                  <a:pt x="1807" y="132"/>
                  <a:pt x="1792" y="159"/>
                  <a:pt x="1773" y="187"/>
                </a:cubicBezTo>
                <a:cubicBezTo>
                  <a:pt x="1769" y="193"/>
                  <a:pt x="1772" y="204"/>
                  <a:pt x="1766" y="208"/>
                </a:cubicBezTo>
                <a:cubicBezTo>
                  <a:pt x="1754" y="217"/>
                  <a:pt x="1724" y="222"/>
                  <a:pt x="1724" y="222"/>
                </a:cubicBezTo>
                <a:cubicBezTo>
                  <a:pt x="1706" y="249"/>
                  <a:pt x="1685" y="267"/>
                  <a:pt x="1674" y="299"/>
                </a:cubicBezTo>
                <a:cubicBezTo>
                  <a:pt x="1672" y="327"/>
                  <a:pt x="1683" y="361"/>
                  <a:pt x="1667" y="384"/>
                </a:cubicBezTo>
                <a:cubicBezTo>
                  <a:pt x="1655" y="401"/>
                  <a:pt x="1596" y="347"/>
                  <a:pt x="1590" y="341"/>
                </a:cubicBezTo>
                <a:cubicBezTo>
                  <a:pt x="1588" y="334"/>
                  <a:pt x="1588" y="325"/>
                  <a:pt x="1583" y="320"/>
                </a:cubicBezTo>
                <a:cubicBezTo>
                  <a:pt x="1571" y="308"/>
                  <a:pt x="1541" y="292"/>
                  <a:pt x="1541" y="292"/>
                </a:cubicBezTo>
                <a:cubicBezTo>
                  <a:pt x="1506" y="345"/>
                  <a:pt x="1335" y="338"/>
                  <a:pt x="1288" y="341"/>
                </a:cubicBezTo>
                <a:cubicBezTo>
                  <a:pt x="1276" y="377"/>
                  <a:pt x="1290" y="420"/>
                  <a:pt x="1274" y="454"/>
                </a:cubicBezTo>
                <a:cubicBezTo>
                  <a:pt x="1269" y="466"/>
                  <a:pt x="1188" y="474"/>
                  <a:pt x="1183" y="475"/>
                </a:cubicBezTo>
                <a:cubicBezTo>
                  <a:pt x="1175" y="589"/>
                  <a:pt x="1199" y="593"/>
                  <a:pt x="1105" y="580"/>
                </a:cubicBezTo>
                <a:cubicBezTo>
                  <a:pt x="1103" y="571"/>
                  <a:pt x="1101" y="561"/>
                  <a:pt x="1098" y="552"/>
                </a:cubicBezTo>
                <a:cubicBezTo>
                  <a:pt x="1094" y="538"/>
                  <a:pt x="1084" y="510"/>
                  <a:pt x="1084" y="510"/>
                </a:cubicBezTo>
                <a:cubicBezTo>
                  <a:pt x="1042" y="521"/>
                  <a:pt x="1034" y="544"/>
                  <a:pt x="1000" y="566"/>
                </a:cubicBezTo>
                <a:cubicBezTo>
                  <a:pt x="995" y="573"/>
                  <a:pt x="993" y="582"/>
                  <a:pt x="986" y="587"/>
                </a:cubicBezTo>
                <a:cubicBezTo>
                  <a:pt x="980" y="592"/>
                  <a:pt x="970" y="589"/>
                  <a:pt x="965" y="594"/>
                </a:cubicBezTo>
                <a:cubicBezTo>
                  <a:pt x="960" y="599"/>
                  <a:pt x="963" y="609"/>
                  <a:pt x="958" y="615"/>
                </a:cubicBezTo>
                <a:cubicBezTo>
                  <a:pt x="953" y="622"/>
                  <a:pt x="944" y="624"/>
                  <a:pt x="937" y="629"/>
                </a:cubicBezTo>
                <a:cubicBezTo>
                  <a:pt x="933" y="640"/>
                  <a:pt x="894" y="724"/>
                  <a:pt x="881" y="735"/>
                </a:cubicBezTo>
                <a:cubicBezTo>
                  <a:pt x="815" y="792"/>
                  <a:pt x="709" y="791"/>
                  <a:pt x="628" y="798"/>
                </a:cubicBezTo>
                <a:cubicBezTo>
                  <a:pt x="530" y="818"/>
                  <a:pt x="638" y="787"/>
                  <a:pt x="579" y="826"/>
                </a:cubicBezTo>
                <a:cubicBezTo>
                  <a:pt x="564" y="835"/>
                  <a:pt x="544" y="832"/>
                  <a:pt x="529" y="840"/>
                </a:cubicBezTo>
                <a:cubicBezTo>
                  <a:pt x="499" y="855"/>
                  <a:pt x="472" y="885"/>
                  <a:pt x="445" y="903"/>
                </a:cubicBezTo>
                <a:cubicBezTo>
                  <a:pt x="421" y="919"/>
                  <a:pt x="334" y="940"/>
                  <a:pt x="305" y="946"/>
                </a:cubicBezTo>
                <a:cubicBezTo>
                  <a:pt x="291" y="955"/>
                  <a:pt x="269" y="994"/>
                  <a:pt x="262" y="995"/>
                </a:cubicBezTo>
                <a:cubicBezTo>
                  <a:pt x="220" y="1001"/>
                  <a:pt x="178" y="1000"/>
                  <a:pt x="136" y="1002"/>
                </a:cubicBezTo>
                <a:cubicBezTo>
                  <a:pt x="134" y="1009"/>
                  <a:pt x="130" y="1016"/>
                  <a:pt x="129" y="1023"/>
                </a:cubicBezTo>
                <a:cubicBezTo>
                  <a:pt x="125" y="1065"/>
                  <a:pt x="131" y="1108"/>
                  <a:pt x="122" y="1149"/>
                </a:cubicBezTo>
                <a:cubicBezTo>
                  <a:pt x="119" y="1165"/>
                  <a:pt x="94" y="1191"/>
                  <a:pt x="94" y="1191"/>
                </a:cubicBezTo>
                <a:cubicBezTo>
                  <a:pt x="92" y="1250"/>
                  <a:pt x="110" y="1313"/>
                  <a:pt x="87" y="1367"/>
                </a:cubicBezTo>
                <a:cubicBezTo>
                  <a:pt x="78" y="1389"/>
                  <a:pt x="29" y="1354"/>
                  <a:pt x="17" y="1374"/>
                </a:cubicBezTo>
                <a:cubicBezTo>
                  <a:pt x="0" y="1402"/>
                  <a:pt x="21" y="1439"/>
                  <a:pt x="24" y="1472"/>
                </a:cubicBezTo>
                <a:cubicBezTo>
                  <a:pt x="28" y="1513"/>
                  <a:pt x="44" y="1585"/>
                  <a:pt x="87" y="1599"/>
                </a:cubicBezTo>
                <a:cubicBezTo>
                  <a:pt x="136" y="1672"/>
                  <a:pt x="86" y="1590"/>
                  <a:pt x="108" y="1796"/>
                </a:cubicBezTo>
                <a:cubicBezTo>
                  <a:pt x="109" y="1810"/>
                  <a:pt x="135" y="1847"/>
                  <a:pt x="143" y="1859"/>
                </a:cubicBezTo>
                <a:cubicBezTo>
                  <a:pt x="141" y="1906"/>
                  <a:pt x="149" y="1954"/>
                  <a:pt x="136" y="1999"/>
                </a:cubicBezTo>
                <a:cubicBezTo>
                  <a:pt x="131" y="2015"/>
                  <a:pt x="94" y="2027"/>
                  <a:pt x="94" y="2027"/>
                </a:cubicBezTo>
                <a:cubicBezTo>
                  <a:pt x="83" y="2061"/>
                  <a:pt x="97" y="2102"/>
                  <a:pt x="80" y="2133"/>
                </a:cubicBezTo>
                <a:cubicBezTo>
                  <a:pt x="73" y="2146"/>
                  <a:pt x="52" y="2138"/>
                  <a:pt x="38" y="2140"/>
                </a:cubicBezTo>
                <a:cubicBezTo>
                  <a:pt x="6" y="2236"/>
                  <a:pt x="20" y="2373"/>
                  <a:pt x="129" y="2400"/>
                </a:cubicBezTo>
                <a:cubicBezTo>
                  <a:pt x="161" y="2424"/>
                  <a:pt x="173" y="2438"/>
                  <a:pt x="213" y="2428"/>
                </a:cubicBezTo>
                <a:cubicBezTo>
                  <a:pt x="215" y="2395"/>
                  <a:pt x="216" y="2362"/>
                  <a:pt x="220" y="2329"/>
                </a:cubicBezTo>
                <a:cubicBezTo>
                  <a:pt x="221" y="2322"/>
                  <a:pt x="220" y="2310"/>
                  <a:pt x="227" y="2308"/>
                </a:cubicBezTo>
                <a:cubicBezTo>
                  <a:pt x="323" y="2279"/>
                  <a:pt x="428" y="2297"/>
                  <a:pt x="529" y="2294"/>
                </a:cubicBezTo>
                <a:cubicBezTo>
                  <a:pt x="543" y="2289"/>
                  <a:pt x="567" y="2294"/>
                  <a:pt x="572" y="2280"/>
                </a:cubicBezTo>
                <a:cubicBezTo>
                  <a:pt x="577" y="2266"/>
                  <a:pt x="586" y="2238"/>
                  <a:pt x="586" y="2238"/>
                </a:cubicBezTo>
                <a:cubicBezTo>
                  <a:pt x="588" y="2222"/>
                  <a:pt x="584" y="2203"/>
                  <a:pt x="593" y="2189"/>
                </a:cubicBezTo>
                <a:cubicBezTo>
                  <a:pt x="608" y="2166"/>
                  <a:pt x="654" y="2155"/>
                  <a:pt x="677" y="2147"/>
                </a:cubicBezTo>
                <a:cubicBezTo>
                  <a:pt x="777" y="2114"/>
                  <a:pt x="795" y="2111"/>
                  <a:pt x="916" y="2105"/>
                </a:cubicBezTo>
                <a:cubicBezTo>
                  <a:pt x="947" y="2095"/>
                  <a:pt x="971" y="2075"/>
                  <a:pt x="1000" y="2062"/>
                </a:cubicBezTo>
                <a:cubicBezTo>
                  <a:pt x="1013" y="2056"/>
                  <a:pt x="1042" y="2048"/>
                  <a:pt x="1042" y="2048"/>
                </a:cubicBezTo>
                <a:cubicBezTo>
                  <a:pt x="1082" y="2050"/>
                  <a:pt x="1122" y="2050"/>
                  <a:pt x="1162" y="2055"/>
                </a:cubicBezTo>
                <a:cubicBezTo>
                  <a:pt x="1177" y="2057"/>
                  <a:pt x="1204" y="2069"/>
                  <a:pt x="1204" y="2069"/>
                </a:cubicBezTo>
                <a:cubicBezTo>
                  <a:pt x="1213" y="2152"/>
                  <a:pt x="1203" y="2121"/>
                  <a:pt x="1253" y="2154"/>
                </a:cubicBezTo>
                <a:cubicBezTo>
                  <a:pt x="1270" y="2179"/>
                  <a:pt x="1279" y="2200"/>
                  <a:pt x="1309" y="2210"/>
                </a:cubicBezTo>
                <a:cubicBezTo>
                  <a:pt x="1322" y="2249"/>
                  <a:pt x="1314" y="2287"/>
                  <a:pt x="1337" y="2322"/>
                </a:cubicBezTo>
                <a:cubicBezTo>
                  <a:pt x="1340" y="2374"/>
                  <a:pt x="1325" y="2483"/>
                  <a:pt x="1379" y="2519"/>
                </a:cubicBezTo>
                <a:cubicBezTo>
                  <a:pt x="1384" y="2534"/>
                  <a:pt x="1398" y="2545"/>
                  <a:pt x="1400" y="2561"/>
                </a:cubicBezTo>
                <a:cubicBezTo>
                  <a:pt x="1409" y="2631"/>
                  <a:pt x="1406" y="2702"/>
                  <a:pt x="1414" y="2772"/>
                </a:cubicBezTo>
                <a:cubicBezTo>
                  <a:pt x="1419" y="2863"/>
                  <a:pt x="1420" y="2955"/>
                  <a:pt x="1429" y="3046"/>
                </a:cubicBezTo>
                <a:cubicBezTo>
                  <a:pt x="1432" y="3073"/>
                  <a:pt x="1461" y="3126"/>
                  <a:pt x="1485" y="3137"/>
                </a:cubicBezTo>
                <a:cubicBezTo>
                  <a:pt x="1498" y="3143"/>
                  <a:pt x="1527" y="3151"/>
                  <a:pt x="1527" y="3151"/>
                </a:cubicBezTo>
                <a:cubicBezTo>
                  <a:pt x="1532" y="3158"/>
                  <a:pt x="1534" y="3168"/>
                  <a:pt x="1541" y="3172"/>
                </a:cubicBezTo>
                <a:cubicBezTo>
                  <a:pt x="1554" y="3180"/>
                  <a:pt x="1583" y="3186"/>
                  <a:pt x="1583" y="3186"/>
                </a:cubicBezTo>
                <a:cubicBezTo>
                  <a:pt x="1591" y="3219"/>
                  <a:pt x="1593" y="3232"/>
                  <a:pt x="1618" y="3257"/>
                </a:cubicBezTo>
                <a:cubicBezTo>
                  <a:pt x="1637" y="3315"/>
                  <a:pt x="1709" y="3302"/>
                  <a:pt x="1759" y="3306"/>
                </a:cubicBezTo>
                <a:cubicBezTo>
                  <a:pt x="1810" y="3326"/>
                  <a:pt x="1844" y="3335"/>
                  <a:pt x="1899" y="3341"/>
                </a:cubicBezTo>
                <a:cubicBezTo>
                  <a:pt x="1941" y="3339"/>
                  <a:pt x="1986" y="3348"/>
                  <a:pt x="2026" y="3334"/>
                </a:cubicBezTo>
                <a:cubicBezTo>
                  <a:pt x="2048" y="3326"/>
                  <a:pt x="2035" y="3283"/>
                  <a:pt x="2054" y="3271"/>
                </a:cubicBezTo>
                <a:cubicBezTo>
                  <a:pt x="2079" y="3255"/>
                  <a:pt x="2126" y="3253"/>
                  <a:pt x="2152" y="3250"/>
                </a:cubicBezTo>
                <a:cubicBezTo>
                  <a:pt x="2159" y="3245"/>
                  <a:pt x="2167" y="3242"/>
                  <a:pt x="2173" y="3236"/>
                </a:cubicBezTo>
                <a:cubicBezTo>
                  <a:pt x="2179" y="3230"/>
                  <a:pt x="2180" y="3220"/>
                  <a:pt x="2187" y="3214"/>
                </a:cubicBezTo>
                <a:cubicBezTo>
                  <a:pt x="2201" y="3202"/>
                  <a:pt x="2220" y="3196"/>
                  <a:pt x="2236" y="3186"/>
                </a:cubicBezTo>
                <a:cubicBezTo>
                  <a:pt x="2248" y="3168"/>
                  <a:pt x="2254" y="3137"/>
                  <a:pt x="2271" y="3123"/>
                </a:cubicBezTo>
                <a:cubicBezTo>
                  <a:pt x="2284" y="3112"/>
                  <a:pt x="2314" y="3095"/>
                  <a:pt x="2314" y="3095"/>
                </a:cubicBezTo>
                <a:cubicBezTo>
                  <a:pt x="2319" y="3088"/>
                  <a:pt x="2322" y="3080"/>
                  <a:pt x="2328" y="3074"/>
                </a:cubicBezTo>
                <a:cubicBezTo>
                  <a:pt x="2341" y="3063"/>
                  <a:pt x="2370" y="3046"/>
                  <a:pt x="2370" y="3046"/>
                </a:cubicBezTo>
                <a:cubicBezTo>
                  <a:pt x="2382" y="3027"/>
                  <a:pt x="2386" y="3019"/>
                  <a:pt x="2405" y="3004"/>
                </a:cubicBezTo>
                <a:cubicBezTo>
                  <a:pt x="2418" y="2994"/>
                  <a:pt x="2447" y="2976"/>
                  <a:pt x="2447" y="2976"/>
                </a:cubicBezTo>
                <a:cubicBezTo>
                  <a:pt x="2449" y="2969"/>
                  <a:pt x="2450" y="2961"/>
                  <a:pt x="2454" y="2955"/>
                </a:cubicBezTo>
                <a:cubicBezTo>
                  <a:pt x="2457" y="2949"/>
                  <a:pt x="2465" y="2946"/>
                  <a:pt x="2468" y="2940"/>
                </a:cubicBezTo>
                <a:cubicBezTo>
                  <a:pt x="2475" y="2925"/>
                  <a:pt x="2478" y="2907"/>
                  <a:pt x="2482" y="2891"/>
                </a:cubicBezTo>
                <a:cubicBezTo>
                  <a:pt x="2489" y="2862"/>
                  <a:pt x="2491" y="2814"/>
                  <a:pt x="2517" y="2793"/>
                </a:cubicBezTo>
                <a:cubicBezTo>
                  <a:pt x="2522" y="2789"/>
                  <a:pt x="2564" y="2779"/>
                  <a:pt x="2566" y="2779"/>
                </a:cubicBezTo>
                <a:cubicBezTo>
                  <a:pt x="2593" y="2753"/>
                  <a:pt x="2632" y="2741"/>
                  <a:pt x="2665" y="2723"/>
                </a:cubicBezTo>
                <a:cubicBezTo>
                  <a:pt x="2680" y="2715"/>
                  <a:pt x="2707" y="2695"/>
                  <a:pt x="2707" y="2695"/>
                </a:cubicBezTo>
                <a:cubicBezTo>
                  <a:pt x="2720" y="2657"/>
                  <a:pt x="2721" y="2633"/>
                  <a:pt x="2756" y="2610"/>
                </a:cubicBezTo>
                <a:cubicBezTo>
                  <a:pt x="2791" y="2558"/>
                  <a:pt x="2750" y="2476"/>
                  <a:pt x="2784" y="2442"/>
                </a:cubicBezTo>
                <a:cubicBezTo>
                  <a:pt x="2796" y="2430"/>
                  <a:pt x="2812" y="2423"/>
                  <a:pt x="2826" y="2414"/>
                </a:cubicBezTo>
                <a:cubicBezTo>
                  <a:pt x="2833" y="2409"/>
                  <a:pt x="2847" y="2400"/>
                  <a:pt x="2847" y="2400"/>
                </a:cubicBezTo>
                <a:cubicBezTo>
                  <a:pt x="2857" y="2371"/>
                  <a:pt x="2880" y="2348"/>
                  <a:pt x="2897" y="2322"/>
                </a:cubicBezTo>
                <a:cubicBezTo>
                  <a:pt x="2913" y="2298"/>
                  <a:pt x="2911" y="2282"/>
                  <a:pt x="2939" y="2273"/>
                </a:cubicBezTo>
                <a:cubicBezTo>
                  <a:pt x="2944" y="2224"/>
                  <a:pt x="2942" y="2213"/>
                  <a:pt x="2953" y="2175"/>
                </a:cubicBezTo>
                <a:cubicBezTo>
                  <a:pt x="2957" y="2161"/>
                  <a:pt x="2967" y="2133"/>
                  <a:pt x="2967" y="2133"/>
                </a:cubicBezTo>
                <a:cubicBezTo>
                  <a:pt x="2969" y="2114"/>
                  <a:pt x="2971" y="2095"/>
                  <a:pt x="2974" y="2076"/>
                </a:cubicBezTo>
                <a:cubicBezTo>
                  <a:pt x="2975" y="2069"/>
                  <a:pt x="2980" y="2062"/>
                  <a:pt x="2981" y="2055"/>
                </a:cubicBezTo>
                <a:cubicBezTo>
                  <a:pt x="2991" y="1981"/>
                  <a:pt x="2971" y="1968"/>
                  <a:pt x="3023" y="1929"/>
                </a:cubicBezTo>
                <a:cubicBezTo>
                  <a:pt x="3053" y="1839"/>
                  <a:pt x="3027" y="1779"/>
                  <a:pt x="3002" y="1704"/>
                </a:cubicBezTo>
                <a:cubicBezTo>
                  <a:pt x="3006" y="1669"/>
                  <a:pt x="2997" y="1606"/>
                  <a:pt x="3016" y="1578"/>
                </a:cubicBezTo>
                <a:cubicBezTo>
                  <a:pt x="3014" y="1543"/>
                  <a:pt x="3022" y="1505"/>
                  <a:pt x="3009" y="1472"/>
                </a:cubicBezTo>
                <a:cubicBezTo>
                  <a:pt x="3003" y="1458"/>
                  <a:pt x="2967" y="1458"/>
                  <a:pt x="2967" y="1458"/>
                </a:cubicBezTo>
                <a:cubicBezTo>
                  <a:pt x="2937" y="1413"/>
                  <a:pt x="2957" y="1328"/>
                  <a:pt x="2967" y="1276"/>
                </a:cubicBezTo>
                <a:cubicBezTo>
                  <a:pt x="2970" y="1261"/>
                  <a:pt x="2981" y="1234"/>
                  <a:pt x="2981" y="1234"/>
                </a:cubicBezTo>
                <a:cubicBezTo>
                  <a:pt x="2976" y="1177"/>
                  <a:pt x="2990" y="1143"/>
                  <a:pt x="2946" y="1114"/>
                </a:cubicBezTo>
                <a:cubicBezTo>
                  <a:pt x="2925" y="1032"/>
                  <a:pt x="2948" y="1129"/>
                  <a:pt x="2932" y="939"/>
                </a:cubicBezTo>
                <a:cubicBezTo>
                  <a:pt x="2930" y="920"/>
                  <a:pt x="2923" y="901"/>
                  <a:pt x="2918" y="882"/>
                </a:cubicBezTo>
                <a:cubicBezTo>
                  <a:pt x="2914" y="868"/>
                  <a:pt x="2904" y="840"/>
                  <a:pt x="2904" y="840"/>
                </a:cubicBezTo>
                <a:cubicBezTo>
                  <a:pt x="2902" y="824"/>
                  <a:pt x="2895" y="807"/>
                  <a:pt x="2897" y="791"/>
                </a:cubicBezTo>
                <a:cubicBezTo>
                  <a:pt x="2898" y="783"/>
                  <a:pt x="2911" y="778"/>
                  <a:pt x="2911" y="770"/>
                </a:cubicBezTo>
                <a:cubicBezTo>
                  <a:pt x="2913" y="688"/>
                  <a:pt x="2910" y="606"/>
                  <a:pt x="2904" y="524"/>
                </a:cubicBezTo>
                <a:cubicBezTo>
                  <a:pt x="2901" y="483"/>
                  <a:pt x="2868" y="455"/>
                  <a:pt x="2854" y="419"/>
                </a:cubicBezTo>
                <a:cubicBezTo>
                  <a:pt x="2854" y="405"/>
                  <a:pt x="2895" y="205"/>
                  <a:pt x="2819" y="180"/>
                </a:cubicBezTo>
                <a:cubicBezTo>
                  <a:pt x="2836" y="128"/>
                  <a:pt x="2873" y="0"/>
                  <a:pt x="2798" y="25"/>
                </a:cubicBezTo>
                <a:cubicBezTo>
                  <a:pt x="2779" y="55"/>
                  <a:pt x="2765" y="81"/>
                  <a:pt x="2749" y="110"/>
                </a:cubicBezTo>
                <a:cubicBezTo>
                  <a:pt x="2741" y="125"/>
                  <a:pt x="2721" y="152"/>
                  <a:pt x="2721" y="152"/>
                </a:cubicBezTo>
                <a:cubicBezTo>
                  <a:pt x="2718" y="225"/>
                  <a:pt x="2750" y="318"/>
                  <a:pt x="2686" y="363"/>
                </a:cubicBezTo>
                <a:cubicBezTo>
                  <a:pt x="2681" y="377"/>
                  <a:pt x="2680" y="393"/>
                  <a:pt x="2672" y="405"/>
                </a:cubicBezTo>
                <a:cubicBezTo>
                  <a:pt x="2667" y="412"/>
                  <a:pt x="2661" y="418"/>
                  <a:pt x="2658" y="426"/>
                </a:cubicBezTo>
                <a:cubicBezTo>
                  <a:pt x="2652" y="439"/>
                  <a:pt x="2649" y="454"/>
                  <a:pt x="2644" y="468"/>
                </a:cubicBezTo>
                <a:cubicBezTo>
                  <a:pt x="2642" y="475"/>
                  <a:pt x="2637" y="489"/>
                  <a:pt x="2637" y="489"/>
                </a:cubicBezTo>
                <a:cubicBezTo>
                  <a:pt x="2633" y="578"/>
                  <a:pt x="2638" y="746"/>
                  <a:pt x="2524" y="784"/>
                </a:cubicBezTo>
                <a:cubicBezTo>
                  <a:pt x="2283" y="774"/>
                  <a:pt x="2412" y="812"/>
                  <a:pt x="2335" y="735"/>
                </a:cubicBezTo>
                <a:cubicBezTo>
                  <a:pt x="2325" y="704"/>
                  <a:pt x="2301" y="681"/>
                  <a:pt x="2286" y="651"/>
                </a:cubicBezTo>
                <a:cubicBezTo>
                  <a:pt x="2272" y="624"/>
                  <a:pt x="2266" y="587"/>
                  <a:pt x="2257" y="559"/>
                </a:cubicBezTo>
                <a:cubicBezTo>
                  <a:pt x="2245" y="522"/>
                  <a:pt x="2214" y="492"/>
                  <a:pt x="2201" y="454"/>
                </a:cubicBezTo>
                <a:cubicBezTo>
                  <a:pt x="2203" y="421"/>
                  <a:pt x="2200" y="388"/>
                  <a:pt x="2208" y="356"/>
                </a:cubicBezTo>
                <a:cubicBezTo>
                  <a:pt x="2210" y="349"/>
                  <a:pt x="2222" y="351"/>
                  <a:pt x="2229" y="348"/>
                </a:cubicBezTo>
                <a:cubicBezTo>
                  <a:pt x="2268" y="328"/>
                  <a:pt x="2231" y="339"/>
                  <a:pt x="2278" y="320"/>
                </a:cubicBezTo>
                <a:cubicBezTo>
                  <a:pt x="2292" y="314"/>
                  <a:pt x="2307" y="311"/>
                  <a:pt x="2321" y="306"/>
                </a:cubicBezTo>
                <a:cubicBezTo>
                  <a:pt x="2328" y="304"/>
                  <a:pt x="2342" y="299"/>
                  <a:pt x="2342" y="299"/>
                </a:cubicBezTo>
                <a:cubicBezTo>
                  <a:pt x="2379" y="243"/>
                  <a:pt x="2372" y="263"/>
                  <a:pt x="2349" y="138"/>
                </a:cubicBezTo>
                <a:cubicBezTo>
                  <a:pt x="2347" y="130"/>
                  <a:pt x="2328" y="124"/>
                  <a:pt x="2328" y="124"/>
                </a:cubicBezTo>
              </a:path>
            </a:pathLst>
          </a:custGeom>
          <a:solidFill>
            <a:srgbClr val="808080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09480" y="1447920"/>
            <a:ext cx="1905120" cy="2514600"/>
          </a:xfrm>
          <a:custGeom>
            <a:avLst/>
            <a:gdLst/>
            <a:ahLst/>
            <a:rect l="l" t="t" r="r" b="b"/>
            <a:pathLst>
              <a:path w="3048" h="4138">
                <a:moveTo>
                  <a:pt x="1826" y="415"/>
                </a:moveTo>
                <a:cubicBezTo>
                  <a:pt x="1821" y="422"/>
                  <a:pt x="1814" y="428"/>
                  <a:pt x="1812" y="436"/>
                </a:cubicBezTo>
                <a:cubicBezTo>
                  <a:pt x="1807" y="454"/>
                  <a:pt x="1820" y="480"/>
                  <a:pt x="1805" y="492"/>
                </a:cubicBezTo>
                <a:cubicBezTo>
                  <a:pt x="1790" y="504"/>
                  <a:pt x="1768" y="487"/>
                  <a:pt x="1749" y="485"/>
                </a:cubicBezTo>
                <a:cubicBezTo>
                  <a:pt x="1735" y="480"/>
                  <a:pt x="1721" y="476"/>
                  <a:pt x="1707" y="471"/>
                </a:cubicBezTo>
                <a:cubicBezTo>
                  <a:pt x="1700" y="469"/>
                  <a:pt x="1686" y="464"/>
                  <a:pt x="1686" y="464"/>
                </a:cubicBezTo>
                <a:cubicBezTo>
                  <a:pt x="1667" y="436"/>
                  <a:pt x="1667" y="396"/>
                  <a:pt x="1644" y="373"/>
                </a:cubicBezTo>
                <a:cubicBezTo>
                  <a:pt x="1624" y="353"/>
                  <a:pt x="1625" y="363"/>
                  <a:pt x="1602" y="352"/>
                </a:cubicBezTo>
                <a:cubicBezTo>
                  <a:pt x="1581" y="341"/>
                  <a:pt x="1571" y="321"/>
                  <a:pt x="1552" y="309"/>
                </a:cubicBezTo>
                <a:cubicBezTo>
                  <a:pt x="1546" y="305"/>
                  <a:pt x="1538" y="305"/>
                  <a:pt x="1531" y="302"/>
                </a:cubicBezTo>
                <a:cubicBezTo>
                  <a:pt x="1523" y="298"/>
                  <a:pt x="1517" y="293"/>
                  <a:pt x="1510" y="288"/>
                </a:cubicBezTo>
                <a:cubicBezTo>
                  <a:pt x="1534" y="252"/>
                  <a:pt x="1509" y="225"/>
                  <a:pt x="1552" y="211"/>
                </a:cubicBezTo>
                <a:cubicBezTo>
                  <a:pt x="1564" y="175"/>
                  <a:pt x="1575" y="152"/>
                  <a:pt x="1552" y="106"/>
                </a:cubicBezTo>
                <a:cubicBezTo>
                  <a:pt x="1549" y="101"/>
                  <a:pt x="1431" y="73"/>
                  <a:pt x="1426" y="71"/>
                </a:cubicBezTo>
                <a:cubicBezTo>
                  <a:pt x="1326" y="38"/>
                  <a:pt x="1173" y="52"/>
                  <a:pt x="1096" y="50"/>
                </a:cubicBezTo>
                <a:cubicBezTo>
                  <a:pt x="1089" y="48"/>
                  <a:pt x="1079" y="49"/>
                  <a:pt x="1075" y="43"/>
                </a:cubicBezTo>
                <a:cubicBezTo>
                  <a:pt x="1066" y="31"/>
                  <a:pt x="1061" y="0"/>
                  <a:pt x="1061" y="0"/>
                </a:cubicBezTo>
                <a:cubicBezTo>
                  <a:pt x="1037" y="2"/>
                  <a:pt x="1013" y="0"/>
                  <a:pt x="990" y="7"/>
                </a:cubicBezTo>
                <a:cubicBezTo>
                  <a:pt x="967" y="14"/>
                  <a:pt x="954" y="74"/>
                  <a:pt x="927" y="92"/>
                </a:cubicBezTo>
                <a:cubicBezTo>
                  <a:pt x="892" y="115"/>
                  <a:pt x="843" y="103"/>
                  <a:pt x="801" y="106"/>
                </a:cubicBezTo>
                <a:cubicBezTo>
                  <a:pt x="765" y="160"/>
                  <a:pt x="768" y="235"/>
                  <a:pt x="710" y="274"/>
                </a:cubicBezTo>
                <a:cubicBezTo>
                  <a:pt x="705" y="288"/>
                  <a:pt x="705" y="305"/>
                  <a:pt x="695" y="316"/>
                </a:cubicBezTo>
                <a:cubicBezTo>
                  <a:pt x="692" y="319"/>
                  <a:pt x="656" y="329"/>
                  <a:pt x="653" y="331"/>
                </a:cubicBezTo>
                <a:cubicBezTo>
                  <a:pt x="620" y="348"/>
                  <a:pt x="609" y="352"/>
                  <a:pt x="569" y="359"/>
                </a:cubicBezTo>
                <a:cubicBezTo>
                  <a:pt x="536" y="392"/>
                  <a:pt x="553" y="372"/>
                  <a:pt x="520" y="422"/>
                </a:cubicBezTo>
                <a:cubicBezTo>
                  <a:pt x="516" y="428"/>
                  <a:pt x="506" y="426"/>
                  <a:pt x="499" y="429"/>
                </a:cubicBezTo>
                <a:cubicBezTo>
                  <a:pt x="491" y="433"/>
                  <a:pt x="485" y="438"/>
                  <a:pt x="478" y="443"/>
                </a:cubicBezTo>
                <a:cubicBezTo>
                  <a:pt x="461" y="468"/>
                  <a:pt x="446" y="467"/>
                  <a:pt x="429" y="492"/>
                </a:cubicBezTo>
                <a:cubicBezTo>
                  <a:pt x="422" y="518"/>
                  <a:pt x="400" y="587"/>
                  <a:pt x="379" y="604"/>
                </a:cubicBezTo>
                <a:cubicBezTo>
                  <a:pt x="362" y="618"/>
                  <a:pt x="316" y="626"/>
                  <a:pt x="316" y="626"/>
                </a:cubicBezTo>
                <a:cubicBezTo>
                  <a:pt x="311" y="633"/>
                  <a:pt x="309" y="642"/>
                  <a:pt x="302" y="647"/>
                </a:cubicBezTo>
                <a:cubicBezTo>
                  <a:pt x="296" y="652"/>
                  <a:pt x="286" y="649"/>
                  <a:pt x="281" y="654"/>
                </a:cubicBezTo>
                <a:cubicBezTo>
                  <a:pt x="275" y="660"/>
                  <a:pt x="256" y="707"/>
                  <a:pt x="253" y="717"/>
                </a:cubicBezTo>
                <a:cubicBezTo>
                  <a:pt x="274" y="749"/>
                  <a:pt x="271" y="773"/>
                  <a:pt x="239" y="794"/>
                </a:cubicBezTo>
                <a:cubicBezTo>
                  <a:pt x="215" y="830"/>
                  <a:pt x="200" y="814"/>
                  <a:pt x="183" y="864"/>
                </a:cubicBezTo>
                <a:cubicBezTo>
                  <a:pt x="181" y="885"/>
                  <a:pt x="181" y="907"/>
                  <a:pt x="176" y="928"/>
                </a:cubicBezTo>
                <a:cubicBezTo>
                  <a:pt x="171" y="946"/>
                  <a:pt x="112" y="1005"/>
                  <a:pt x="91" y="1012"/>
                </a:cubicBezTo>
                <a:cubicBezTo>
                  <a:pt x="80" y="1045"/>
                  <a:pt x="94" y="1100"/>
                  <a:pt x="70" y="1124"/>
                </a:cubicBezTo>
                <a:cubicBezTo>
                  <a:pt x="58" y="1136"/>
                  <a:pt x="28" y="1152"/>
                  <a:pt x="28" y="1152"/>
                </a:cubicBezTo>
                <a:cubicBezTo>
                  <a:pt x="6" y="1186"/>
                  <a:pt x="0" y="1185"/>
                  <a:pt x="21" y="1244"/>
                </a:cubicBezTo>
                <a:cubicBezTo>
                  <a:pt x="23" y="1251"/>
                  <a:pt x="35" y="1248"/>
                  <a:pt x="42" y="1251"/>
                </a:cubicBezTo>
                <a:cubicBezTo>
                  <a:pt x="50" y="1255"/>
                  <a:pt x="56" y="1260"/>
                  <a:pt x="63" y="1265"/>
                </a:cubicBezTo>
                <a:cubicBezTo>
                  <a:pt x="107" y="1330"/>
                  <a:pt x="53" y="1420"/>
                  <a:pt x="105" y="1476"/>
                </a:cubicBezTo>
                <a:cubicBezTo>
                  <a:pt x="142" y="1587"/>
                  <a:pt x="103" y="1422"/>
                  <a:pt x="134" y="1672"/>
                </a:cubicBezTo>
                <a:cubicBezTo>
                  <a:pt x="136" y="1688"/>
                  <a:pt x="150" y="1699"/>
                  <a:pt x="155" y="1714"/>
                </a:cubicBezTo>
                <a:cubicBezTo>
                  <a:pt x="165" y="1823"/>
                  <a:pt x="153" y="1794"/>
                  <a:pt x="253" y="1806"/>
                </a:cubicBezTo>
                <a:cubicBezTo>
                  <a:pt x="308" y="1824"/>
                  <a:pt x="362" y="1857"/>
                  <a:pt x="422" y="1862"/>
                </a:cubicBezTo>
                <a:cubicBezTo>
                  <a:pt x="466" y="1866"/>
                  <a:pt x="511" y="1867"/>
                  <a:pt x="555" y="1869"/>
                </a:cubicBezTo>
                <a:cubicBezTo>
                  <a:pt x="581" y="1875"/>
                  <a:pt x="606" y="1884"/>
                  <a:pt x="632" y="1890"/>
                </a:cubicBezTo>
                <a:cubicBezTo>
                  <a:pt x="660" y="1881"/>
                  <a:pt x="659" y="1863"/>
                  <a:pt x="681" y="1841"/>
                </a:cubicBezTo>
                <a:cubicBezTo>
                  <a:pt x="737" y="1843"/>
                  <a:pt x="794" y="1839"/>
                  <a:pt x="850" y="1848"/>
                </a:cubicBezTo>
                <a:cubicBezTo>
                  <a:pt x="857" y="1849"/>
                  <a:pt x="852" y="1864"/>
                  <a:pt x="857" y="1869"/>
                </a:cubicBezTo>
                <a:cubicBezTo>
                  <a:pt x="868" y="1880"/>
                  <a:pt x="905" y="1892"/>
                  <a:pt x="920" y="1897"/>
                </a:cubicBezTo>
                <a:cubicBezTo>
                  <a:pt x="955" y="1932"/>
                  <a:pt x="940" y="1933"/>
                  <a:pt x="990" y="1946"/>
                </a:cubicBezTo>
                <a:cubicBezTo>
                  <a:pt x="1005" y="1950"/>
                  <a:pt x="1033" y="1960"/>
                  <a:pt x="1033" y="1960"/>
                </a:cubicBezTo>
                <a:cubicBezTo>
                  <a:pt x="1044" y="2071"/>
                  <a:pt x="1047" y="2067"/>
                  <a:pt x="1033" y="2220"/>
                </a:cubicBezTo>
                <a:cubicBezTo>
                  <a:pt x="1032" y="2235"/>
                  <a:pt x="1019" y="2262"/>
                  <a:pt x="1019" y="2262"/>
                </a:cubicBezTo>
                <a:cubicBezTo>
                  <a:pt x="1025" y="2301"/>
                  <a:pt x="1021" y="2334"/>
                  <a:pt x="1061" y="2347"/>
                </a:cubicBezTo>
                <a:cubicBezTo>
                  <a:pt x="1068" y="2376"/>
                  <a:pt x="1075" y="2438"/>
                  <a:pt x="1089" y="2459"/>
                </a:cubicBezTo>
                <a:cubicBezTo>
                  <a:pt x="1094" y="2467"/>
                  <a:pt x="1101" y="2475"/>
                  <a:pt x="1110" y="2480"/>
                </a:cubicBezTo>
                <a:cubicBezTo>
                  <a:pt x="1123" y="2487"/>
                  <a:pt x="1152" y="2494"/>
                  <a:pt x="1152" y="2494"/>
                </a:cubicBezTo>
                <a:cubicBezTo>
                  <a:pt x="1166" y="2515"/>
                  <a:pt x="1173" y="2536"/>
                  <a:pt x="1187" y="2557"/>
                </a:cubicBezTo>
                <a:cubicBezTo>
                  <a:pt x="1189" y="2610"/>
                  <a:pt x="1168" y="2780"/>
                  <a:pt x="1257" y="2810"/>
                </a:cubicBezTo>
                <a:cubicBezTo>
                  <a:pt x="1264" y="3215"/>
                  <a:pt x="1128" y="3214"/>
                  <a:pt x="1314" y="3260"/>
                </a:cubicBezTo>
                <a:cubicBezTo>
                  <a:pt x="1373" y="3299"/>
                  <a:pt x="1322" y="3257"/>
                  <a:pt x="1342" y="3400"/>
                </a:cubicBezTo>
                <a:cubicBezTo>
                  <a:pt x="1346" y="3426"/>
                  <a:pt x="1390" y="3441"/>
                  <a:pt x="1405" y="3456"/>
                </a:cubicBezTo>
                <a:cubicBezTo>
                  <a:pt x="1416" y="3467"/>
                  <a:pt x="1423" y="3481"/>
                  <a:pt x="1433" y="3492"/>
                </a:cubicBezTo>
                <a:cubicBezTo>
                  <a:pt x="1443" y="3522"/>
                  <a:pt x="1447" y="3548"/>
                  <a:pt x="1461" y="3576"/>
                </a:cubicBezTo>
                <a:cubicBezTo>
                  <a:pt x="1464" y="3583"/>
                  <a:pt x="1463" y="3592"/>
                  <a:pt x="1468" y="3597"/>
                </a:cubicBezTo>
                <a:cubicBezTo>
                  <a:pt x="1481" y="3610"/>
                  <a:pt x="1501" y="3615"/>
                  <a:pt x="1517" y="3625"/>
                </a:cubicBezTo>
                <a:cubicBezTo>
                  <a:pt x="1524" y="3668"/>
                  <a:pt x="1529" y="3686"/>
                  <a:pt x="1559" y="3716"/>
                </a:cubicBezTo>
                <a:cubicBezTo>
                  <a:pt x="1566" y="3737"/>
                  <a:pt x="1563" y="3761"/>
                  <a:pt x="1574" y="3780"/>
                </a:cubicBezTo>
                <a:cubicBezTo>
                  <a:pt x="1583" y="3795"/>
                  <a:pt x="1607" y="3790"/>
                  <a:pt x="1623" y="3794"/>
                </a:cubicBezTo>
                <a:cubicBezTo>
                  <a:pt x="1630" y="3803"/>
                  <a:pt x="1635" y="3815"/>
                  <a:pt x="1644" y="3822"/>
                </a:cubicBezTo>
                <a:cubicBezTo>
                  <a:pt x="1650" y="3827"/>
                  <a:pt x="1660" y="3823"/>
                  <a:pt x="1665" y="3829"/>
                </a:cubicBezTo>
                <a:cubicBezTo>
                  <a:pt x="1671" y="3837"/>
                  <a:pt x="1668" y="3848"/>
                  <a:pt x="1672" y="3857"/>
                </a:cubicBezTo>
                <a:cubicBezTo>
                  <a:pt x="1693" y="3899"/>
                  <a:pt x="1732" y="3929"/>
                  <a:pt x="1770" y="3955"/>
                </a:cubicBezTo>
                <a:cubicBezTo>
                  <a:pt x="1775" y="3970"/>
                  <a:pt x="1788" y="3982"/>
                  <a:pt x="1791" y="3997"/>
                </a:cubicBezTo>
                <a:cubicBezTo>
                  <a:pt x="1797" y="4032"/>
                  <a:pt x="1790" y="4068"/>
                  <a:pt x="1798" y="4103"/>
                </a:cubicBezTo>
                <a:cubicBezTo>
                  <a:pt x="1803" y="4127"/>
                  <a:pt x="1862" y="4138"/>
                  <a:pt x="1862" y="4138"/>
                </a:cubicBezTo>
                <a:cubicBezTo>
                  <a:pt x="1931" y="4115"/>
                  <a:pt x="2000" y="4116"/>
                  <a:pt x="2072" y="4110"/>
                </a:cubicBezTo>
                <a:cubicBezTo>
                  <a:pt x="2077" y="4057"/>
                  <a:pt x="2060" y="4043"/>
                  <a:pt x="2100" y="4025"/>
                </a:cubicBezTo>
                <a:cubicBezTo>
                  <a:pt x="2108" y="4022"/>
                  <a:pt x="2150" y="4009"/>
                  <a:pt x="2164" y="4004"/>
                </a:cubicBezTo>
                <a:cubicBezTo>
                  <a:pt x="2171" y="4002"/>
                  <a:pt x="2185" y="3997"/>
                  <a:pt x="2185" y="3997"/>
                </a:cubicBezTo>
                <a:cubicBezTo>
                  <a:pt x="2194" y="3983"/>
                  <a:pt x="2204" y="3969"/>
                  <a:pt x="2213" y="3955"/>
                </a:cubicBezTo>
                <a:cubicBezTo>
                  <a:pt x="2272" y="3866"/>
                  <a:pt x="2166" y="3738"/>
                  <a:pt x="2262" y="3674"/>
                </a:cubicBezTo>
                <a:cubicBezTo>
                  <a:pt x="2277" y="3630"/>
                  <a:pt x="2295" y="3594"/>
                  <a:pt x="2339" y="3583"/>
                </a:cubicBezTo>
                <a:cubicBezTo>
                  <a:pt x="2387" y="3511"/>
                  <a:pt x="2423" y="3356"/>
                  <a:pt x="2325" y="3323"/>
                </a:cubicBezTo>
                <a:cubicBezTo>
                  <a:pt x="2316" y="3297"/>
                  <a:pt x="2305" y="3276"/>
                  <a:pt x="2290" y="3253"/>
                </a:cubicBezTo>
                <a:cubicBezTo>
                  <a:pt x="2304" y="3211"/>
                  <a:pt x="2286" y="3251"/>
                  <a:pt x="2318" y="3218"/>
                </a:cubicBezTo>
                <a:cubicBezTo>
                  <a:pt x="2329" y="3207"/>
                  <a:pt x="2328" y="3186"/>
                  <a:pt x="2339" y="3175"/>
                </a:cubicBezTo>
                <a:cubicBezTo>
                  <a:pt x="2344" y="3170"/>
                  <a:pt x="2353" y="3171"/>
                  <a:pt x="2360" y="3168"/>
                </a:cubicBezTo>
                <a:cubicBezTo>
                  <a:pt x="2368" y="3164"/>
                  <a:pt x="2373" y="3157"/>
                  <a:pt x="2381" y="3154"/>
                </a:cubicBezTo>
                <a:cubicBezTo>
                  <a:pt x="2394" y="3148"/>
                  <a:pt x="2423" y="3140"/>
                  <a:pt x="2423" y="3140"/>
                </a:cubicBezTo>
                <a:cubicBezTo>
                  <a:pt x="2441" y="3124"/>
                  <a:pt x="2460" y="3118"/>
                  <a:pt x="2480" y="3105"/>
                </a:cubicBezTo>
                <a:cubicBezTo>
                  <a:pt x="2501" y="3073"/>
                  <a:pt x="2512" y="3081"/>
                  <a:pt x="2522" y="3042"/>
                </a:cubicBezTo>
                <a:cubicBezTo>
                  <a:pt x="2520" y="2960"/>
                  <a:pt x="2521" y="2878"/>
                  <a:pt x="2515" y="2796"/>
                </a:cubicBezTo>
                <a:cubicBezTo>
                  <a:pt x="2514" y="2781"/>
                  <a:pt x="2501" y="2754"/>
                  <a:pt x="2501" y="2754"/>
                </a:cubicBezTo>
                <a:cubicBezTo>
                  <a:pt x="2493" y="2615"/>
                  <a:pt x="2507" y="2667"/>
                  <a:pt x="2480" y="2585"/>
                </a:cubicBezTo>
                <a:cubicBezTo>
                  <a:pt x="2473" y="2564"/>
                  <a:pt x="2466" y="2543"/>
                  <a:pt x="2459" y="2522"/>
                </a:cubicBezTo>
                <a:cubicBezTo>
                  <a:pt x="2457" y="2515"/>
                  <a:pt x="2452" y="2501"/>
                  <a:pt x="2452" y="2501"/>
                </a:cubicBezTo>
                <a:cubicBezTo>
                  <a:pt x="2454" y="2461"/>
                  <a:pt x="2455" y="2422"/>
                  <a:pt x="2459" y="2382"/>
                </a:cubicBezTo>
                <a:cubicBezTo>
                  <a:pt x="2460" y="2375"/>
                  <a:pt x="2464" y="2368"/>
                  <a:pt x="2466" y="2361"/>
                </a:cubicBezTo>
                <a:cubicBezTo>
                  <a:pt x="2469" y="2349"/>
                  <a:pt x="2466" y="2335"/>
                  <a:pt x="2473" y="2325"/>
                </a:cubicBezTo>
                <a:cubicBezTo>
                  <a:pt x="2495" y="2296"/>
                  <a:pt x="2510" y="2301"/>
                  <a:pt x="2536" y="2290"/>
                </a:cubicBezTo>
                <a:cubicBezTo>
                  <a:pt x="2591" y="2266"/>
                  <a:pt x="2639" y="2232"/>
                  <a:pt x="2697" y="2213"/>
                </a:cubicBezTo>
                <a:cubicBezTo>
                  <a:pt x="2706" y="2187"/>
                  <a:pt x="2738" y="2158"/>
                  <a:pt x="2761" y="2143"/>
                </a:cubicBezTo>
                <a:cubicBezTo>
                  <a:pt x="2777" y="2119"/>
                  <a:pt x="2799" y="2110"/>
                  <a:pt x="2817" y="2087"/>
                </a:cubicBezTo>
                <a:cubicBezTo>
                  <a:pt x="2827" y="2073"/>
                  <a:pt x="2836" y="2058"/>
                  <a:pt x="2845" y="2044"/>
                </a:cubicBezTo>
                <a:cubicBezTo>
                  <a:pt x="2871" y="2004"/>
                  <a:pt x="2850" y="1992"/>
                  <a:pt x="2887" y="1967"/>
                </a:cubicBezTo>
                <a:cubicBezTo>
                  <a:pt x="2920" y="1918"/>
                  <a:pt x="2917" y="1855"/>
                  <a:pt x="2950" y="1806"/>
                </a:cubicBezTo>
                <a:cubicBezTo>
                  <a:pt x="2959" y="1770"/>
                  <a:pt x="2946" y="1741"/>
                  <a:pt x="2985" y="1728"/>
                </a:cubicBezTo>
                <a:cubicBezTo>
                  <a:pt x="2990" y="1721"/>
                  <a:pt x="2994" y="1713"/>
                  <a:pt x="2999" y="1707"/>
                </a:cubicBezTo>
                <a:cubicBezTo>
                  <a:pt x="3003" y="1702"/>
                  <a:pt x="3010" y="1698"/>
                  <a:pt x="3014" y="1693"/>
                </a:cubicBezTo>
                <a:cubicBezTo>
                  <a:pt x="3024" y="1680"/>
                  <a:pt x="3042" y="1651"/>
                  <a:pt x="3042" y="1651"/>
                </a:cubicBezTo>
                <a:cubicBezTo>
                  <a:pt x="3040" y="1623"/>
                  <a:pt x="3048" y="1592"/>
                  <a:pt x="3035" y="1567"/>
                </a:cubicBezTo>
                <a:cubicBezTo>
                  <a:pt x="3028" y="1554"/>
                  <a:pt x="2992" y="1553"/>
                  <a:pt x="2992" y="1553"/>
                </a:cubicBezTo>
                <a:cubicBezTo>
                  <a:pt x="2951" y="1556"/>
                  <a:pt x="2877" y="1551"/>
                  <a:pt x="2831" y="1574"/>
                </a:cubicBezTo>
                <a:cubicBezTo>
                  <a:pt x="2777" y="1601"/>
                  <a:pt x="2842" y="1577"/>
                  <a:pt x="2789" y="1595"/>
                </a:cubicBezTo>
                <a:cubicBezTo>
                  <a:pt x="2678" y="1586"/>
                  <a:pt x="2715" y="1604"/>
                  <a:pt x="2662" y="1525"/>
                </a:cubicBezTo>
                <a:cubicBezTo>
                  <a:pt x="2654" y="1513"/>
                  <a:pt x="2620" y="1511"/>
                  <a:pt x="2620" y="1511"/>
                </a:cubicBezTo>
                <a:cubicBezTo>
                  <a:pt x="2588" y="1479"/>
                  <a:pt x="2606" y="1494"/>
                  <a:pt x="2557" y="1461"/>
                </a:cubicBezTo>
                <a:cubicBezTo>
                  <a:pt x="2550" y="1456"/>
                  <a:pt x="2536" y="1447"/>
                  <a:pt x="2536" y="1447"/>
                </a:cubicBezTo>
                <a:cubicBezTo>
                  <a:pt x="2521" y="1403"/>
                  <a:pt x="2502" y="1365"/>
                  <a:pt x="2487" y="1321"/>
                </a:cubicBezTo>
                <a:cubicBezTo>
                  <a:pt x="2476" y="1287"/>
                  <a:pt x="2475" y="1264"/>
                  <a:pt x="2445" y="1244"/>
                </a:cubicBezTo>
                <a:cubicBezTo>
                  <a:pt x="2413" y="1249"/>
                  <a:pt x="2384" y="1255"/>
                  <a:pt x="2353" y="1265"/>
                </a:cubicBezTo>
                <a:cubicBezTo>
                  <a:pt x="2313" y="1145"/>
                  <a:pt x="2279" y="1018"/>
                  <a:pt x="2409" y="1061"/>
                </a:cubicBezTo>
                <a:cubicBezTo>
                  <a:pt x="2430" y="1059"/>
                  <a:pt x="2463" y="1073"/>
                  <a:pt x="2473" y="1054"/>
                </a:cubicBezTo>
                <a:cubicBezTo>
                  <a:pt x="2511" y="985"/>
                  <a:pt x="2449" y="927"/>
                  <a:pt x="2409" y="885"/>
                </a:cubicBezTo>
                <a:cubicBezTo>
                  <a:pt x="2384" y="810"/>
                  <a:pt x="2405" y="806"/>
                  <a:pt x="2360" y="738"/>
                </a:cubicBezTo>
                <a:cubicBezTo>
                  <a:pt x="2352" y="726"/>
                  <a:pt x="2351" y="710"/>
                  <a:pt x="2346" y="696"/>
                </a:cubicBezTo>
                <a:cubicBezTo>
                  <a:pt x="2344" y="689"/>
                  <a:pt x="2339" y="675"/>
                  <a:pt x="2339" y="675"/>
                </a:cubicBezTo>
                <a:cubicBezTo>
                  <a:pt x="2332" y="590"/>
                  <a:pt x="2337" y="583"/>
                  <a:pt x="2290" y="527"/>
                </a:cubicBezTo>
                <a:cubicBezTo>
                  <a:pt x="2274" y="507"/>
                  <a:pt x="2282" y="502"/>
                  <a:pt x="2255" y="499"/>
                </a:cubicBezTo>
                <a:cubicBezTo>
                  <a:pt x="2220" y="495"/>
                  <a:pt x="2185" y="494"/>
                  <a:pt x="2150" y="492"/>
                </a:cubicBezTo>
                <a:cubicBezTo>
                  <a:pt x="2131" y="486"/>
                  <a:pt x="2084" y="477"/>
                  <a:pt x="2065" y="464"/>
                </a:cubicBezTo>
                <a:cubicBezTo>
                  <a:pt x="2038" y="446"/>
                  <a:pt x="2052" y="453"/>
                  <a:pt x="2023" y="443"/>
                </a:cubicBezTo>
                <a:cubicBezTo>
                  <a:pt x="2015" y="418"/>
                  <a:pt x="2007" y="398"/>
                  <a:pt x="1981" y="387"/>
                </a:cubicBezTo>
                <a:cubicBezTo>
                  <a:pt x="1968" y="381"/>
                  <a:pt x="1953" y="378"/>
                  <a:pt x="1939" y="373"/>
                </a:cubicBezTo>
                <a:cubicBezTo>
                  <a:pt x="1932" y="371"/>
                  <a:pt x="1918" y="366"/>
                  <a:pt x="1918" y="366"/>
                </a:cubicBezTo>
                <a:cubicBezTo>
                  <a:pt x="1894" y="368"/>
                  <a:pt x="1868" y="362"/>
                  <a:pt x="1847" y="373"/>
                </a:cubicBezTo>
                <a:cubicBezTo>
                  <a:pt x="1837" y="379"/>
                  <a:pt x="1845" y="397"/>
                  <a:pt x="1840" y="408"/>
                </a:cubicBezTo>
                <a:cubicBezTo>
                  <a:pt x="1838" y="413"/>
                  <a:pt x="1831" y="413"/>
                  <a:pt x="1826" y="415"/>
                </a:cubicBezTo>
                <a:close/>
              </a:path>
            </a:pathLst>
          </a:custGeom>
          <a:solidFill>
            <a:srgbClr val="808080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124080" y="4648320"/>
            <a:ext cx="1482840" cy="2125440"/>
          </a:xfrm>
          <a:custGeom>
            <a:avLst/>
            <a:gdLst/>
            <a:ahLst/>
            <a:rect l="l" t="t" r="r" b="b"/>
            <a:pathLst>
              <a:path w="2662" h="4123">
                <a:moveTo>
                  <a:pt x="1470" y="267"/>
                </a:moveTo>
                <a:cubicBezTo>
                  <a:pt x="1448" y="253"/>
                  <a:pt x="1424" y="235"/>
                  <a:pt x="1400" y="225"/>
                </a:cubicBezTo>
                <a:cubicBezTo>
                  <a:pt x="1368" y="211"/>
                  <a:pt x="1344" y="209"/>
                  <a:pt x="1316" y="190"/>
                </a:cubicBezTo>
                <a:cubicBezTo>
                  <a:pt x="1283" y="140"/>
                  <a:pt x="1306" y="126"/>
                  <a:pt x="1246" y="106"/>
                </a:cubicBezTo>
                <a:cubicBezTo>
                  <a:pt x="1033" y="115"/>
                  <a:pt x="1133" y="101"/>
                  <a:pt x="1035" y="134"/>
                </a:cubicBezTo>
                <a:cubicBezTo>
                  <a:pt x="1021" y="132"/>
                  <a:pt x="1004" y="136"/>
                  <a:pt x="993" y="127"/>
                </a:cubicBezTo>
                <a:cubicBezTo>
                  <a:pt x="982" y="117"/>
                  <a:pt x="987" y="97"/>
                  <a:pt x="979" y="85"/>
                </a:cubicBezTo>
                <a:cubicBezTo>
                  <a:pt x="974" y="78"/>
                  <a:pt x="970" y="71"/>
                  <a:pt x="965" y="64"/>
                </a:cubicBezTo>
                <a:cubicBezTo>
                  <a:pt x="953" y="66"/>
                  <a:pt x="942" y="68"/>
                  <a:pt x="930" y="71"/>
                </a:cubicBezTo>
                <a:cubicBezTo>
                  <a:pt x="923" y="73"/>
                  <a:pt x="914" y="82"/>
                  <a:pt x="908" y="78"/>
                </a:cubicBezTo>
                <a:cubicBezTo>
                  <a:pt x="894" y="68"/>
                  <a:pt x="896" y="40"/>
                  <a:pt x="880" y="35"/>
                </a:cubicBezTo>
                <a:cubicBezTo>
                  <a:pt x="848" y="24"/>
                  <a:pt x="818" y="19"/>
                  <a:pt x="789" y="0"/>
                </a:cubicBezTo>
                <a:cubicBezTo>
                  <a:pt x="741" y="12"/>
                  <a:pt x="743" y="5"/>
                  <a:pt x="726" y="57"/>
                </a:cubicBezTo>
                <a:cubicBezTo>
                  <a:pt x="716" y="88"/>
                  <a:pt x="660" y="62"/>
                  <a:pt x="627" y="64"/>
                </a:cubicBezTo>
                <a:cubicBezTo>
                  <a:pt x="534" y="87"/>
                  <a:pt x="539" y="79"/>
                  <a:pt x="389" y="85"/>
                </a:cubicBezTo>
                <a:cubicBezTo>
                  <a:pt x="338" y="119"/>
                  <a:pt x="359" y="203"/>
                  <a:pt x="403" y="232"/>
                </a:cubicBezTo>
                <a:cubicBezTo>
                  <a:pt x="412" y="260"/>
                  <a:pt x="421" y="272"/>
                  <a:pt x="445" y="288"/>
                </a:cubicBezTo>
                <a:cubicBezTo>
                  <a:pt x="464" y="317"/>
                  <a:pt x="475" y="345"/>
                  <a:pt x="494" y="373"/>
                </a:cubicBezTo>
                <a:cubicBezTo>
                  <a:pt x="497" y="427"/>
                  <a:pt x="538" y="602"/>
                  <a:pt x="466" y="626"/>
                </a:cubicBezTo>
                <a:cubicBezTo>
                  <a:pt x="459" y="633"/>
                  <a:pt x="453" y="641"/>
                  <a:pt x="445" y="647"/>
                </a:cubicBezTo>
                <a:cubicBezTo>
                  <a:pt x="432" y="657"/>
                  <a:pt x="403" y="675"/>
                  <a:pt x="403" y="675"/>
                </a:cubicBezTo>
                <a:cubicBezTo>
                  <a:pt x="371" y="723"/>
                  <a:pt x="391" y="712"/>
                  <a:pt x="354" y="724"/>
                </a:cubicBezTo>
                <a:cubicBezTo>
                  <a:pt x="343" y="753"/>
                  <a:pt x="328" y="782"/>
                  <a:pt x="311" y="808"/>
                </a:cubicBezTo>
                <a:cubicBezTo>
                  <a:pt x="313" y="834"/>
                  <a:pt x="306" y="862"/>
                  <a:pt x="318" y="885"/>
                </a:cubicBezTo>
                <a:cubicBezTo>
                  <a:pt x="329" y="905"/>
                  <a:pt x="361" y="899"/>
                  <a:pt x="382" y="907"/>
                </a:cubicBezTo>
                <a:cubicBezTo>
                  <a:pt x="394" y="944"/>
                  <a:pt x="395" y="924"/>
                  <a:pt x="346" y="956"/>
                </a:cubicBezTo>
                <a:cubicBezTo>
                  <a:pt x="339" y="961"/>
                  <a:pt x="325" y="970"/>
                  <a:pt x="325" y="970"/>
                </a:cubicBezTo>
                <a:cubicBezTo>
                  <a:pt x="304" y="1032"/>
                  <a:pt x="292" y="1100"/>
                  <a:pt x="332" y="1159"/>
                </a:cubicBezTo>
                <a:cubicBezTo>
                  <a:pt x="340" y="1217"/>
                  <a:pt x="342" y="1204"/>
                  <a:pt x="368" y="1244"/>
                </a:cubicBezTo>
                <a:cubicBezTo>
                  <a:pt x="401" y="1295"/>
                  <a:pt x="397" y="1307"/>
                  <a:pt x="452" y="1321"/>
                </a:cubicBezTo>
                <a:cubicBezTo>
                  <a:pt x="484" y="1369"/>
                  <a:pt x="475" y="1347"/>
                  <a:pt x="487" y="1384"/>
                </a:cubicBezTo>
                <a:cubicBezTo>
                  <a:pt x="489" y="1445"/>
                  <a:pt x="430" y="1714"/>
                  <a:pt x="571" y="1749"/>
                </a:cubicBezTo>
                <a:cubicBezTo>
                  <a:pt x="591" y="1754"/>
                  <a:pt x="613" y="1754"/>
                  <a:pt x="634" y="1756"/>
                </a:cubicBezTo>
                <a:cubicBezTo>
                  <a:pt x="644" y="1758"/>
                  <a:pt x="655" y="1757"/>
                  <a:pt x="663" y="1763"/>
                </a:cubicBezTo>
                <a:cubicBezTo>
                  <a:pt x="669" y="1768"/>
                  <a:pt x="664" y="1780"/>
                  <a:pt x="670" y="1785"/>
                </a:cubicBezTo>
                <a:cubicBezTo>
                  <a:pt x="682" y="1794"/>
                  <a:pt x="712" y="1799"/>
                  <a:pt x="712" y="1799"/>
                </a:cubicBezTo>
                <a:cubicBezTo>
                  <a:pt x="729" y="1849"/>
                  <a:pt x="714" y="1833"/>
                  <a:pt x="747" y="1855"/>
                </a:cubicBezTo>
                <a:cubicBezTo>
                  <a:pt x="753" y="1891"/>
                  <a:pt x="755" y="1909"/>
                  <a:pt x="775" y="1939"/>
                </a:cubicBezTo>
                <a:cubicBezTo>
                  <a:pt x="773" y="2019"/>
                  <a:pt x="781" y="2099"/>
                  <a:pt x="768" y="2178"/>
                </a:cubicBezTo>
                <a:cubicBezTo>
                  <a:pt x="766" y="2190"/>
                  <a:pt x="743" y="2178"/>
                  <a:pt x="733" y="2185"/>
                </a:cubicBezTo>
                <a:cubicBezTo>
                  <a:pt x="727" y="2189"/>
                  <a:pt x="728" y="2199"/>
                  <a:pt x="726" y="2206"/>
                </a:cubicBezTo>
                <a:cubicBezTo>
                  <a:pt x="724" y="2248"/>
                  <a:pt x="723" y="2290"/>
                  <a:pt x="719" y="2332"/>
                </a:cubicBezTo>
                <a:cubicBezTo>
                  <a:pt x="716" y="2362"/>
                  <a:pt x="689" y="2390"/>
                  <a:pt x="677" y="2417"/>
                </a:cubicBezTo>
                <a:cubicBezTo>
                  <a:pt x="658" y="2461"/>
                  <a:pt x="664" y="2502"/>
                  <a:pt x="627" y="2536"/>
                </a:cubicBezTo>
                <a:cubicBezTo>
                  <a:pt x="627" y="2536"/>
                  <a:pt x="604" y="2615"/>
                  <a:pt x="599" y="2620"/>
                </a:cubicBezTo>
                <a:cubicBezTo>
                  <a:pt x="572" y="2649"/>
                  <a:pt x="558" y="2685"/>
                  <a:pt x="536" y="2719"/>
                </a:cubicBezTo>
                <a:cubicBezTo>
                  <a:pt x="528" y="2731"/>
                  <a:pt x="527" y="2747"/>
                  <a:pt x="522" y="2761"/>
                </a:cubicBezTo>
                <a:cubicBezTo>
                  <a:pt x="520" y="2768"/>
                  <a:pt x="515" y="2782"/>
                  <a:pt x="515" y="2782"/>
                </a:cubicBezTo>
                <a:cubicBezTo>
                  <a:pt x="513" y="2808"/>
                  <a:pt x="515" y="2834"/>
                  <a:pt x="508" y="2859"/>
                </a:cubicBezTo>
                <a:cubicBezTo>
                  <a:pt x="503" y="2875"/>
                  <a:pt x="489" y="2887"/>
                  <a:pt x="480" y="2901"/>
                </a:cubicBezTo>
                <a:cubicBezTo>
                  <a:pt x="475" y="2908"/>
                  <a:pt x="469" y="2915"/>
                  <a:pt x="466" y="2923"/>
                </a:cubicBezTo>
                <a:cubicBezTo>
                  <a:pt x="451" y="2968"/>
                  <a:pt x="435" y="2999"/>
                  <a:pt x="389" y="3014"/>
                </a:cubicBezTo>
                <a:cubicBezTo>
                  <a:pt x="371" y="3067"/>
                  <a:pt x="397" y="3004"/>
                  <a:pt x="361" y="3049"/>
                </a:cubicBezTo>
                <a:cubicBezTo>
                  <a:pt x="340" y="3075"/>
                  <a:pt x="368" y="3084"/>
                  <a:pt x="325" y="3098"/>
                </a:cubicBezTo>
                <a:cubicBezTo>
                  <a:pt x="312" y="3137"/>
                  <a:pt x="289" y="3165"/>
                  <a:pt x="276" y="3203"/>
                </a:cubicBezTo>
                <a:cubicBezTo>
                  <a:pt x="270" y="3398"/>
                  <a:pt x="324" y="3440"/>
                  <a:pt x="164" y="3456"/>
                </a:cubicBezTo>
                <a:cubicBezTo>
                  <a:pt x="140" y="3528"/>
                  <a:pt x="187" y="3571"/>
                  <a:pt x="108" y="3597"/>
                </a:cubicBezTo>
                <a:cubicBezTo>
                  <a:pt x="103" y="3604"/>
                  <a:pt x="100" y="3612"/>
                  <a:pt x="94" y="3618"/>
                </a:cubicBezTo>
                <a:cubicBezTo>
                  <a:pt x="88" y="3624"/>
                  <a:pt x="78" y="3625"/>
                  <a:pt x="73" y="3632"/>
                </a:cubicBezTo>
                <a:cubicBezTo>
                  <a:pt x="68" y="3638"/>
                  <a:pt x="70" y="3647"/>
                  <a:pt x="66" y="3653"/>
                </a:cubicBezTo>
                <a:cubicBezTo>
                  <a:pt x="62" y="3659"/>
                  <a:pt x="56" y="3662"/>
                  <a:pt x="51" y="3667"/>
                </a:cubicBezTo>
                <a:cubicBezTo>
                  <a:pt x="49" y="3719"/>
                  <a:pt x="49" y="3771"/>
                  <a:pt x="44" y="3822"/>
                </a:cubicBezTo>
                <a:cubicBezTo>
                  <a:pt x="44" y="3822"/>
                  <a:pt x="27" y="3874"/>
                  <a:pt x="23" y="3885"/>
                </a:cubicBezTo>
                <a:cubicBezTo>
                  <a:pt x="21" y="3892"/>
                  <a:pt x="16" y="3906"/>
                  <a:pt x="16" y="3906"/>
                </a:cubicBezTo>
                <a:cubicBezTo>
                  <a:pt x="24" y="4022"/>
                  <a:pt x="0" y="3995"/>
                  <a:pt x="73" y="4018"/>
                </a:cubicBezTo>
                <a:cubicBezTo>
                  <a:pt x="128" y="4055"/>
                  <a:pt x="222" y="4123"/>
                  <a:pt x="283" y="4025"/>
                </a:cubicBezTo>
                <a:cubicBezTo>
                  <a:pt x="337" y="3937"/>
                  <a:pt x="283" y="3819"/>
                  <a:pt x="290" y="3716"/>
                </a:cubicBezTo>
                <a:cubicBezTo>
                  <a:pt x="292" y="3685"/>
                  <a:pt x="344" y="3667"/>
                  <a:pt x="361" y="3646"/>
                </a:cubicBezTo>
                <a:cubicBezTo>
                  <a:pt x="366" y="3640"/>
                  <a:pt x="367" y="3627"/>
                  <a:pt x="375" y="3625"/>
                </a:cubicBezTo>
                <a:cubicBezTo>
                  <a:pt x="407" y="3617"/>
                  <a:pt x="440" y="3620"/>
                  <a:pt x="473" y="3618"/>
                </a:cubicBezTo>
                <a:cubicBezTo>
                  <a:pt x="470" y="3590"/>
                  <a:pt x="457" y="3505"/>
                  <a:pt x="473" y="3477"/>
                </a:cubicBezTo>
                <a:cubicBezTo>
                  <a:pt x="480" y="3464"/>
                  <a:pt x="501" y="3468"/>
                  <a:pt x="515" y="3463"/>
                </a:cubicBezTo>
                <a:cubicBezTo>
                  <a:pt x="537" y="3456"/>
                  <a:pt x="558" y="3446"/>
                  <a:pt x="578" y="3435"/>
                </a:cubicBezTo>
                <a:cubicBezTo>
                  <a:pt x="593" y="3427"/>
                  <a:pt x="620" y="3407"/>
                  <a:pt x="620" y="3407"/>
                </a:cubicBezTo>
                <a:cubicBezTo>
                  <a:pt x="625" y="3400"/>
                  <a:pt x="629" y="3392"/>
                  <a:pt x="634" y="3386"/>
                </a:cubicBezTo>
                <a:cubicBezTo>
                  <a:pt x="638" y="3381"/>
                  <a:pt x="645" y="3377"/>
                  <a:pt x="649" y="3372"/>
                </a:cubicBezTo>
                <a:cubicBezTo>
                  <a:pt x="659" y="3359"/>
                  <a:pt x="677" y="3330"/>
                  <a:pt x="677" y="3330"/>
                </a:cubicBezTo>
                <a:cubicBezTo>
                  <a:pt x="679" y="3307"/>
                  <a:pt x="663" y="3270"/>
                  <a:pt x="684" y="3260"/>
                </a:cubicBezTo>
                <a:cubicBezTo>
                  <a:pt x="730" y="3238"/>
                  <a:pt x="787" y="3261"/>
                  <a:pt x="838" y="3253"/>
                </a:cubicBezTo>
                <a:cubicBezTo>
                  <a:pt x="856" y="3250"/>
                  <a:pt x="858" y="3221"/>
                  <a:pt x="873" y="3211"/>
                </a:cubicBezTo>
                <a:cubicBezTo>
                  <a:pt x="914" y="3183"/>
                  <a:pt x="971" y="3199"/>
                  <a:pt x="1021" y="3196"/>
                </a:cubicBezTo>
                <a:cubicBezTo>
                  <a:pt x="1066" y="3181"/>
                  <a:pt x="1080" y="3144"/>
                  <a:pt x="1112" y="3112"/>
                </a:cubicBezTo>
                <a:cubicBezTo>
                  <a:pt x="1114" y="3079"/>
                  <a:pt x="1107" y="3045"/>
                  <a:pt x="1119" y="3014"/>
                </a:cubicBezTo>
                <a:cubicBezTo>
                  <a:pt x="1127" y="2993"/>
                  <a:pt x="1186" y="2978"/>
                  <a:pt x="1203" y="2972"/>
                </a:cubicBezTo>
                <a:cubicBezTo>
                  <a:pt x="1259" y="2953"/>
                  <a:pt x="1320" y="2967"/>
                  <a:pt x="1379" y="2965"/>
                </a:cubicBezTo>
                <a:cubicBezTo>
                  <a:pt x="1410" y="2955"/>
                  <a:pt x="1432" y="2933"/>
                  <a:pt x="1463" y="2923"/>
                </a:cubicBezTo>
                <a:cubicBezTo>
                  <a:pt x="1473" y="2912"/>
                  <a:pt x="1488" y="2906"/>
                  <a:pt x="1498" y="2894"/>
                </a:cubicBezTo>
                <a:cubicBezTo>
                  <a:pt x="1503" y="2888"/>
                  <a:pt x="1502" y="2880"/>
                  <a:pt x="1506" y="2873"/>
                </a:cubicBezTo>
                <a:cubicBezTo>
                  <a:pt x="1514" y="2858"/>
                  <a:pt x="1534" y="2831"/>
                  <a:pt x="1534" y="2831"/>
                </a:cubicBezTo>
                <a:cubicBezTo>
                  <a:pt x="1540" y="2806"/>
                  <a:pt x="1536" y="2777"/>
                  <a:pt x="1548" y="2754"/>
                </a:cubicBezTo>
                <a:cubicBezTo>
                  <a:pt x="1551" y="2747"/>
                  <a:pt x="1563" y="2751"/>
                  <a:pt x="1569" y="2747"/>
                </a:cubicBezTo>
                <a:cubicBezTo>
                  <a:pt x="1605" y="2727"/>
                  <a:pt x="1634" y="2704"/>
                  <a:pt x="1674" y="2691"/>
                </a:cubicBezTo>
                <a:cubicBezTo>
                  <a:pt x="1703" y="2647"/>
                  <a:pt x="1670" y="2595"/>
                  <a:pt x="1716" y="2564"/>
                </a:cubicBezTo>
                <a:cubicBezTo>
                  <a:pt x="1721" y="2557"/>
                  <a:pt x="1723" y="2547"/>
                  <a:pt x="1730" y="2543"/>
                </a:cubicBezTo>
                <a:cubicBezTo>
                  <a:pt x="1743" y="2535"/>
                  <a:pt x="1772" y="2529"/>
                  <a:pt x="1772" y="2529"/>
                </a:cubicBezTo>
                <a:cubicBezTo>
                  <a:pt x="1820" y="2482"/>
                  <a:pt x="1796" y="2493"/>
                  <a:pt x="1836" y="2480"/>
                </a:cubicBezTo>
                <a:cubicBezTo>
                  <a:pt x="1853" y="2455"/>
                  <a:pt x="1883" y="2365"/>
                  <a:pt x="1913" y="2361"/>
                </a:cubicBezTo>
                <a:cubicBezTo>
                  <a:pt x="1957" y="2355"/>
                  <a:pt x="2002" y="2356"/>
                  <a:pt x="2046" y="2354"/>
                </a:cubicBezTo>
                <a:cubicBezTo>
                  <a:pt x="2131" y="2326"/>
                  <a:pt x="2184" y="2308"/>
                  <a:pt x="2208" y="2213"/>
                </a:cubicBezTo>
                <a:cubicBezTo>
                  <a:pt x="2210" y="2159"/>
                  <a:pt x="2211" y="2105"/>
                  <a:pt x="2215" y="2051"/>
                </a:cubicBezTo>
                <a:cubicBezTo>
                  <a:pt x="2216" y="2044"/>
                  <a:pt x="2217" y="2035"/>
                  <a:pt x="2222" y="2030"/>
                </a:cubicBezTo>
                <a:cubicBezTo>
                  <a:pt x="2227" y="2025"/>
                  <a:pt x="2237" y="2027"/>
                  <a:pt x="2243" y="2023"/>
                </a:cubicBezTo>
                <a:cubicBezTo>
                  <a:pt x="2258" y="2015"/>
                  <a:pt x="2271" y="2004"/>
                  <a:pt x="2285" y="1995"/>
                </a:cubicBezTo>
                <a:cubicBezTo>
                  <a:pt x="2299" y="1986"/>
                  <a:pt x="2327" y="1967"/>
                  <a:pt x="2327" y="1967"/>
                </a:cubicBezTo>
                <a:cubicBezTo>
                  <a:pt x="2336" y="1953"/>
                  <a:pt x="2346" y="1939"/>
                  <a:pt x="2355" y="1925"/>
                </a:cubicBezTo>
                <a:cubicBezTo>
                  <a:pt x="2415" y="1835"/>
                  <a:pt x="2324" y="1926"/>
                  <a:pt x="2377" y="1876"/>
                </a:cubicBezTo>
                <a:cubicBezTo>
                  <a:pt x="2379" y="1831"/>
                  <a:pt x="2381" y="1787"/>
                  <a:pt x="2384" y="1742"/>
                </a:cubicBezTo>
                <a:cubicBezTo>
                  <a:pt x="2392" y="1634"/>
                  <a:pt x="2429" y="1657"/>
                  <a:pt x="2545" y="1651"/>
                </a:cubicBezTo>
                <a:cubicBezTo>
                  <a:pt x="2589" y="1636"/>
                  <a:pt x="2602" y="1628"/>
                  <a:pt x="2629" y="1588"/>
                </a:cubicBezTo>
                <a:cubicBezTo>
                  <a:pt x="2632" y="1499"/>
                  <a:pt x="2662" y="1239"/>
                  <a:pt x="2629" y="1152"/>
                </a:cubicBezTo>
                <a:cubicBezTo>
                  <a:pt x="2616" y="1118"/>
                  <a:pt x="2578" y="1096"/>
                  <a:pt x="2566" y="1061"/>
                </a:cubicBezTo>
                <a:cubicBezTo>
                  <a:pt x="2557" y="1034"/>
                  <a:pt x="2530" y="996"/>
                  <a:pt x="2503" y="984"/>
                </a:cubicBezTo>
                <a:cubicBezTo>
                  <a:pt x="2438" y="955"/>
                  <a:pt x="2371" y="960"/>
                  <a:pt x="2299" y="956"/>
                </a:cubicBezTo>
                <a:cubicBezTo>
                  <a:pt x="2283" y="932"/>
                  <a:pt x="2271" y="923"/>
                  <a:pt x="2243" y="914"/>
                </a:cubicBezTo>
                <a:cubicBezTo>
                  <a:pt x="2226" y="896"/>
                  <a:pt x="2225" y="874"/>
                  <a:pt x="2208" y="857"/>
                </a:cubicBezTo>
                <a:cubicBezTo>
                  <a:pt x="2193" y="842"/>
                  <a:pt x="2145" y="822"/>
                  <a:pt x="2124" y="815"/>
                </a:cubicBezTo>
                <a:cubicBezTo>
                  <a:pt x="2100" y="817"/>
                  <a:pt x="2072" y="808"/>
                  <a:pt x="2053" y="822"/>
                </a:cubicBezTo>
                <a:cubicBezTo>
                  <a:pt x="2040" y="832"/>
                  <a:pt x="2053" y="856"/>
                  <a:pt x="2046" y="871"/>
                </a:cubicBezTo>
                <a:cubicBezTo>
                  <a:pt x="2043" y="878"/>
                  <a:pt x="2032" y="876"/>
                  <a:pt x="2025" y="878"/>
                </a:cubicBezTo>
                <a:cubicBezTo>
                  <a:pt x="1965" y="866"/>
                  <a:pt x="1997" y="884"/>
                  <a:pt x="1997" y="850"/>
                </a:cubicBezTo>
                <a:cubicBezTo>
                  <a:pt x="1997" y="836"/>
                  <a:pt x="1992" y="822"/>
                  <a:pt x="1990" y="808"/>
                </a:cubicBezTo>
                <a:cubicBezTo>
                  <a:pt x="1974" y="810"/>
                  <a:pt x="1957" y="819"/>
                  <a:pt x="1941" y="815"/>
                </a:cubicBezTo>
                <a:cubicBezTo>
                  <a:pt x="1934" y="813"/>
                  <a:pt x="1934" y="801"/>
                  <a:pt x="1934" y="794"/>
                </a:cubicBezTo>
                <a:cubicBezTo>
                  <a:pt x="1934" y="738"/>
                  <a:pt x="1939" y="721"/>
                  <a:pt x="1948" y="675"/>
                </a:cubicBezTo>
                <a:cubicBezTo>
                  <a:pt x="1938" y="566"/>
                  <a:pt x="1924" y="524"/>
                  <a:pt x="1843" y="457"/>
                </a:cubicBezTo>
                <a:cubicBezTo>
                  <a:pt x="1808" y="428"/>
                  <a:pt x="1838" y="441"/>
                  <a:pt x="1801" y="429"/>
                </a:cubicBezTo>
                <a:cubicBezTo>
                  <a:pt x="1751" y="382"/>
                  <a:pt x="1821" y="442"/>
                  <a:pt x="1660" y="408"/>
                </a:cubicBezTo>
                <a:cubicBezTo>
                  <a:pt x="1624" y="400"/>
                  <a:pt x="1608" y="359"/>
                  <a:pt x="1576" y="345"/>
                </a:cubicBezTo>
                <a:cubicBezTo>
                  <a:pt x="1563" y="339"/>
                  <a:pt x="1534" y="331"/>
                  <a:pt x="1534" y="331"/>
                </a:cubicBezTo>
                <a:cubicBezTo>
                  <a:pt x="1527" y="326"/>
                  <a:pt x="1521" y="320"/>
                  <a:pt x="1513" y="316"/>
                </a:cubicBezTo>
                <a:cubicBezTo>
                  <a:pt x="1506" y="312"/>
                  <a:pt x="1497" y="314"/>
                  <a:pt x="1491" y="309"/>
                </a:cubicBezTo>
                <a:cubicBezTo>
                  <a:pt x="1486" y="304"/>
                  <a:pt x="1487" y="295"/>
                  <a:pt x="1484" y="288"/>
                </a:cubicBezTo>
                <a:cubicBezTo>
                  <a:pt x="1470" y="261"/>
                  <a:pt x="1456" y="260"/>
                  <a:pt x="1428" y="260"/>
                </a:cubicBezTo>
              </a:path>
            </a:pathLst>
          </a:custGeom>
          <a:solidFill>
            <a:srgbClr val="808080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553080" y="6095880"/>
            <a:ext cx="1905120" cy="540000"/>
          </a:xfrm>
          <a:custGeom>
            <a:avLst/>
            <a:gdLst/>
            <a:ahLst/>
            <a:rect l="l" t="t" r="r" b="b"/>
            <a:pathLst>
              <a:path w="4169" h="1156">
                <a:moveTo>
                  <a:pt x="4060" y="49"/>
                </a:moveTo>
                <a:cubicBezTo>
                  <a:pt x="3862" y="53"/>
                  <a:pt x="3724" y="64"/>
                  <a:pt x="3540" y="84"/>
                </a:cubicBezTo>
                <a:cubicBezTo>
                  <a:pt x="3503" y="96"/>
                  <a:pt x="3525" y="87"/>
                  <a:pt x="3477" y="119"/>
                </a:cubicBezTo>
                <a:cubicBezTo>
                  <a:pt x="3463" y="128"/>
                  <a:pt x="3444" y="124"/>
                  <a:pt x="3428" y="126"/>
                </a:cubicBezTo>
                <a:cubicBezTo>
                  <a:pt x="3304" y="166"/>
                  <a:pt x="3282" y="162"/>
                  <a:pt x="3119" y="168"/>
                </a:cubicBezTo>
                <a:cubicBezTo>
                  <a:pt x="3035" y="222"/>
                  <a:pt x="2967" y="192"/>
                  <a:pt x="2845" y="196"/>
                </a:cubicBezTo>
                <a:cubicBezTo>
                  <a:pt x="2774" y="220"/>
                  <a:pt x="2695" y="206"/>
                  <a:pt x="2620" y="218"/>
                </a:cubicBezTo>
                <a:cubicBezTo>
                  <a:pt x="2597" y="226"/>
                  <a:pt x="2573" y="231"/>
                  <a:pt x="2550" y="239"/>
                </a:cubicBezTo>
                <a:cubicBezTo>
                  <a:pt x="2508" y="237"/>
                  <a:pt x="2465" y="236"/>
                  <a:pt x="2423" y="232"/>
                </a:cubicBezTo>
                <a:cubicBezTo>
                  <a:pt x="2405" y="230"/>
                  <a:pt x="2335" y="184"/>
                  <a:pt x="2311" y="168"/>
                </a:cubicBezTo>
                <a:cubicBezTo>
                  <a:pt x="2309" y="161"/>
                  <a:pt x="2310" y="151"/>
                  <a:pt x="2304" y="147"/>
                </a:cubicBezTo>
                <a:cubicBezTo>
                  <a:pt x="2291" y="137"/>
                  <a:pt x="2195" y="109"/>
                  <a:pt x="2177" y="105"/>
                </a:cubicBezTo>
                <a:cubicBezTo>
                  <a:pt x="2161" y="97"/>
                  <a:pt x="2144" y="93"/>
                  <a:pt x="2128" y="84"/>
                </a:cubicBezTo>
                <a:cubicBezTo>
                  <a:pt x="2113" y="76"/>
                  <a:pt x="2102" y="61"/>
                  <a:pt x="2086" y="56"/>
                </a:cubicBezTo>
                <a:cubicBezTo>
                  <a:pt x="2058" y="47"/>
                  <a:pt x="2006" y="38"/>
                  <a:pt x="1981" y="21"/>
                </a:cubicBezTo>
                <a:cubicBezTo>
                  <a:pt x="1952" y="1"/>
                  <a:pt x="1968" y="9"/>
                  <a:pt x="1931" y="0"/>
                </a:cubicBezTo>
                <a:cubicBezTo>
                  <a:pt x="1847" y="2"/>
                  <a:pt x="1763" y="3"/>
                  <a:pt x="1679" y="7"/>
                </a:cubicBezTo>
                <a:cubicBezTo>
                  <a:pt x="1617" y="10"/>
                  <a:pt x="1631" y="0"/>
                  <a:pt x="1608" y="35"/>
                </a:cubicBezTo>
                <a:cubicBezTo>
                  <a:pt x="1617" y="135"/>
                  <a:pt x="1631" y="183"/>
                  <a:pt x="1714" y="239"/>
                </a:cubicBezTo>
                <a:cubicBezTo>
                  <a:pt x="1716" y="262"/>
                  <a:pt x="1713" y="287"/>
                  <a:pt x="1721" y="309"/>
                </a:cubicBezTo>
                <a:cubicBezTo>
                  <a:pt x="1724" y="316"/>
                  <a:pt x="1737" y="311"/>
                  <a:pt x="1742" y="316"/>
                </a:cubicBezTo>
                <a:cubicBezTo>
                  <a:pt x="1747" y="321"/>
                  <a:pt x="1744" y="332"/>
                  <a:pt x="1749" y="337"/>
                </a:cubicBezTo>
                <a:cubicBezTo>
                  <a:pt x="1789" y="377"/>
                  <a:pt x="1810" y="367"/>
                  <a:pt x="1868" y="372"/>
                </a:cubicBezTo>
                <a:cubicBezTo>
                  <a:pt x="1904" y="384"/>
                  <a:pt x="1926" y="398"/>
                  <a:pt x="1960" y="414"/>
                </a:cubicBezTo>
                <a:cubicBezTo>
                  <a:pt x="1974" y="435"/>
                  <a:pt x="1988" y="456"/>
                  <a:pt x="2002" y="477"/>
                </a:cubicBezTo>
                <a:cubicBezTo>
                  <a:pt x="2010" y="489"/>
                  <a:pt x="2030" y="486"/>
                  <a:pt x="2044" y="491"/>
                </a:cubicBezTo>
                <a:cubicBezTo>
                  <a:pt x="2051" y="493"/>
                  <a:pt x="2065" y="498"/>
                  <a:pt x="2065" y="498"/>
                </a:cubicBezTo>
                <a:cubicBezTo>
                  <a:pt x="2103" y="539"/>
                  <a:pt x="2169" y="530"/>
                  <a:pt x="2219" y="534"/>
                </a:cubicBezTo>
                <a:cubicBezTo>
                  <a:pt x="2257" y="559"/>
                  <a:pt x="2286" y="581"/>
                  <a:pt x="2332" y="590"/>
                </a:cubicBezTo>
                <a:cubicBezTo>
                  <a:pt x="2340" y="613"/>
                  <a:pt x="2367" y="653"/>
                  <a:pt x="2367" y="653"/>
                </a:cubicBezTo>
                <a:cubicBezTo>
                  <a:pt x="2346" y="735"/>
                  <a:pt x="2191" y="714"/>
                  <a:pt x="2142" y="716"/>
                </a:cubicBezTo>
                <a:cubicBezTo>
                  <a:pt x="2128" y="721"/>
                  <a:pt x="2114" y="725"/>
                  <a:pt x="2100" y="730"/>
                </a:cubicBezTo>
                <a:cubicBezTo>
                  <a:pt x="2093" y="732"/>
                  <a:pt x="2079" y="737"/>
                  <a:pt x="2079" y="737"/>
                </a:cubicBezTo>
                <a:cubicBezTo>
                  <a:pt x="2035" y="802"/>
                  <a:pt x="1969" y="815"/>
                  <a:pt x="1896" y="822"/>
                </a:cubicBezTo>
                <a:cubicBezTo>
                  <a:pt x="1870" y="828"/>
                  <a:pt x="1842" y="830"/>
                  <a:pt x="1819" y="843"/>
                </a:cubicBezTo>
                <a:cubicBezTo>
                  <a:pt x="1804" y="851"/>
                  <a:pt x="1777" y="871"/>
                  <a:pt x="1777" y="871"/>
                </a:cubicBezTo>
                <a:cubicBezTo>
                  <a:pt x="1761" y="895"/>
                  <a:pt x="1749" y="904"/>
                  <a:pt x="1721" y="913"/>
                </a:cubicBezTo>
                <a:cubicBezTo>
                  <a:pt x="1705" y="937"/>
                  <a:pt x="1684" y="943"/>
                  <a:pt x="1657" y="955"/>
                </a:cubicBezTo>
                <a:cubicBezTo>
                  <a:pt x="1643" y="961"/>
                  <a:pt x="1615" y="969"/>
                  <a:pt x="1615" y="969"/>
                </a:cubicBezTo>
                <a:cubicBezTo>
                  <a:pt x="1538" y="967"/>
                  <a:pt x="1461" y="966"/>
                  <a:pt x="1384" y="962"/>
                </a:cubicBezTo>
                <a:cubicBezTo>
                  <a:pt x="1353" y="960"/>
                  <a:pt x="1293" y="928"/>
                  <a:pt x="1264" y="913"/>
                </a:cubicBezTo>
                <a:cubicBezTo>
                  <a:pt x="1247" y="905"/>
                  <a:pt x="1226" y="904"/>
                  <a:pt x="1208" y="899"/>
                </a:cubicBezTo>
                <a:cubicBezTo>
                  <a:pt x="1144" y="882"/>
                  <a:pt x="1091" y="858"/>
                  <a:pt x="1025" y="850"/>
                </a:cubicBezTo>
                <a:cubicBezTo>
                  <a:pt x="967" y="831"/>
                  <a:pt x="998" y="838"/>
                  <a:pt x="934" y="829"/>
                </a:cubicBezTo>
                <a:cubicBezTo>
                  <a:pt x="787" y="780"/>
                  <a:pt x="912" y="797"/>
                  <a:pt x="674" y="786"/>
                </a:cubicBezTo>
                <a:cubicBezTo>
                  <a:pt x="670" y="784"/>
                  <a:pt x="629" y="765"/>
                  <a:pt x="625" y="758"/>
                </a:cubicBezTo>
                <a:cubicBezTo>
                  <a:pt x="583" y="691"/>
                  <a:pt x="638" y="734"/>
                  <a:pt x="590" y="702"/>
                </a:cubicBezTo>
                <a:cubicBezTo>
                  <a:pt x="566" y="630"/>
                  <a:pt x="556" y="655"/>
                  <a:pt x="512" y="611"/>
                </a:cubicBezTo>
                <a:cubicBezTo>
                  <a:pt x="486" y="585"/>
                  <a:pt x="500" y="593"/>
                  <a:pt x="470" y="583"/>
                </a:cubicBezTo>
                <a:cubicBezTo>
                  <a:pt x="427" y="540"/>
                  <a:pt x="351" y="532"/>
                  <a:pt x="295" y="513"/>
                </a:cubicBezTo>
                <a:cubicBezTo>
                  <a:pt x="261" y="476"/>
                  <a:pt x="180" y="475"/>
                  <a:pt x="133" y="470"/>
                </a:cubicBezTo>
                <a:cubicBezTo>
                  <a:pt x="100" y="472"/>
                  <a:pt x="68" y="473"/>
                  <a:pt x="35" y="477"/>
                </a:cubicBezTo>
                <a:cubicBezTo>
                  <a:pt x="28" y="478"/>
                  <a:pt x="18" y="478"/>
                  <a:pt x="14" y="484"/>
                </a:cubicBezTo>
                <a:cubicBezTo>
                  <a:pt x="5" y="496"/>
                  <a:pt x="0" y="527"/>
                  <a:pt x="0" y="527"/>
                </a:cubicBezTo>
                <a:cubicBezTo>
                  <a:pt x="5" y="559"/>
                  <a:pt x="13" y="587"/>
                  <a:pt x="21" y="618"/>
                </a:cubicBezTo>
                <a:cubicBezTo>
                  <a:pt x="26" y="662"/>
                  <a:pt x="0" y="723"/>
                  <a:pt x="35" y="751"/>
                </a:cubicBezTo>
                <a:cubicBezTo>
                  <a:pt x="77" y="785"/>
                  <a:pt x="143" y="752"/>
                  <a:pt x="196" y="758"/>
                </a:cubicBezTo>
                <a:cubicBezTo>
                  <a:pt x="227" y="761"/>
                  <a:pt x="269" y="781"/>
                  <a:pt x="302" y="786"/>
                </a:cubicBezTo>
                <a:cubicBezTo>
                  <a:pt x="325" y="795"/>
                  <a:pt x="342" y="814"/>
                  <a:pt x="365" y="822"/>
                </a:cubicBezTo>
                <a:cubicBezTo>
                  <a:pt x="467" y="856"/>
                  <a:pt x="511" y="870"/>
                  <a:pt x="625" y="878"/>
                </a:cubicBezTo>
                <a:cubicBezTo>
                  <a:pt x="711" y="907"/>
                  <a:pt x="795" y="914"/>
                  <a:pt x="885" y="920"/>
                </a:cubicBezTo>
                <a:cubicBezTo>
                  <a:pt x="973" y="949"/>
                  <a:pt x="1067" y="968"/>
                  <a:pt x="1159" y="976"/>
                </a:cubicBezTo>
                <a:cubicBezTo>
                  <a:pt x="1227" y="993"/>
                  <a:pt x="1294" y="992"/>
                  <a:pt x="1362" y="983"/>
                </a:cubicBezTo>
                <a:cubicBezTo>
                  <a:pt x="1368" y="991"/>
                  <a:pt x="1409" y="1051"/>
                  <a:pt x="1419" y="1053"/>
                </a:cubicBezTo>
                <a:cubicBezTo>
                  <a:pt x="1558" y="1082"/>
                  <a:pt x="1719" y="1067"/>
                  <a:pt x="1861" y="1074"/>
                </a:cubicBezTo>
                <a:cubicBezTo>
                  <a:pt x="1962" y="1112"/>
                  <a:pt x="2112" y="1098"/>
                  <a:pt x="2212" y="1103"/>
                </a:cubicBezTo>
                <a:cubicBezTo>
                  <a:pt x="2250" y="1105"/>
                  <a:pt x="2287" y="1109"/>
                  <a:pt x="2325" y="1110"/>
                </a:cubicBezTo>
                <a:cubicBezTo>
                  <a:pt x="2426" y="1113"/>
                  <a:pt x="2526" y="1115"/>
                  <a:pt x="2627" y="1117"/>
                </a:cubicBezTo>
                <a:cubicBezTo>
                  <a:pt x="3080" y="1156"/>
                  <a:pt x="2734" y="1131"/>
                  <a:pt x="3666" y="1124"/>
                </a:cubicBezTo>
                <a:cubicBezTo>
                  <a:pt x="3717" y="1111"/>
                  <a:pt x="3765" y="1098"/>
                  <a:pt x="3814" y="1082"/>
                </a:cubicBezTo>
                <a:cubicBezTo>
                  <a:pt x="3842" y="1073"/>
                  <a:pt x="3873" y="1074"/>
                  <a:pt x="3898" y="1060"/>
                </a:cubicBezTo>
                <a:cubicBezTo>
                  <a:pt x="3913" y="1052"/>
                  <a:pt x="3924" y="1037"/>
                  <a:pt x="3940" y="1032"/>
                </a:cubicBezTo>
                <a:cubicBezTo>
                  <a:pt x="3947" y="1030"/>
                  <a:pt x="3954" y="1028"/>
                  <a:pt x="3961" y="1025"/>
                </a:cubicBezTo>
                <a:cubicBezTo>
                  <a:pt x="3982" y="1015"/>
                  <a:pt x="4006" y="1010"/>
                  <a:pt x="4025" y="997"/>
                </a:cubicBezTo>
                <a:cubicBezTo>
                  <a:pt x="4039" y="988"/>
                  <a:pt x="4053" y="978"/>
                  <a:pt x="4067" y="969"/>
                </a:cubicBezTo>
                <a:cubicBezTo>
                  <a:pt x="4074" y="964"/>
                  <a:pt x="4088" y="955"/>
                  <a:pt x="4088" y="955"/>
                </a:cubicBezTo>
                <a:cubicBezTo>
                  <a:pt x="4104" y="906"/>
                  <a:pt x="4077" y="887"/>
                  <a:pt x="4032" y="878"/>
                </a:cubicBezTo>
                <a:cubicBezTo>
                  <a:pt x="3980" y="852"/>
                  <a:pt x="3934" y="843"/>
                  <a:pt x="3877" y="836"/>
                </a:cubicBezTo>
                <a:cubicBezTo>
                  <a:pt x="3853" y="828"/>
                  <a:pt x="3830" y="816"/>
                  <a:pt x="3807" y="808"/>
                </a:cubicBezTo>
                <a:cubicBezTo>
                  <a:pt x="3734" y="784"/>
                  <a:pt x="3650" y="785"/>
                  <a:pt x="3575" y="779"/>
                </a:cubicBezTo>
                <a:cubicBezTo>
                  <a:pt x="3523" y="762"/>
                  <a:pt x="3584" y="780"/>
                  <a:pt x="3477" y="765"/>
                </a:cubicBezTo>
                <a:cubicBezTo>
                  <a:pt x="3454" y="762"/>
                  <a:pt x="3436" y="744"/>
                  <a:pt x="3414" y="737"/>
                </a:cubicBezTo>
                <a:cubicBezTo>
                  <a:pt x="3409" y="730"/>
                  <a:pt x="3400" y="724"/>
                  <a:pt x="3400" y="716"/>
                </a:cubicBezTo>
                <a:cubicBezTo>
                  <a:pt x="3400" y="697"/>
                  <a:pt x="3422" y="691"/>
                  <a:pt x="3435" y="688"/>
                </a:cubicBezTo>
                <a:cubicBezTo>
                  <a:pt x="3486" y="677"/>
                  <a:pt x="3537" y="667"/>
                  <a:pt x="3589" y="660"/>
                </a:cubicBezTo>
                <a:cubicBezTo>
                  <a:pt x="3632" y="654"/>
                  <a:pt x="3621" y="656"/>
                  <a:pt x="3652" y="646"/>
                </a:cubicBezTo>
                <a:cubicBezTo>
                  <a:pt x="3683" y="599"/>
                  <a:pt x="3697" y="583"/>
                  <a:pt x="3751" y="569"/>
                </a:cubicBezTo>
                <a:cubicBezTo>
                  <a:pt x="3756" y="562"/>
                  <a:pt x="3759" y="554"/>
                  <a:pt x="3765" y="548"/>
                </a:cubicBezTo>
                <a:cubicBezTo>
                  <a:pt x="3771" y="542"/>
                  <a:pt x="3782" y="541"/>
                  <a:pt x="3786" y="534"/>
                </a:cubicBezTo>
                <a:cubicBezTo>
                  <a:pt x="3800" y="509"/>
                  <a:pt x="3800" y="436"/>
                  <a:pt x="3814" y="414"/>
                </a:cubicBezTo>
                <a:cubicBezTo>
                  <a:pt x="3820" y="405"/>
                  <a:pt x="3833" y="405"/>
                  <a:pt x="3842" y="400"/>
                </a:cubicBezTo>
                <a:cubicBezTo>
                  <a:pt x="3874" y="382"/>
                  <a:pt x="3917" y="378"/>
                  <a:pt x="3947" y="358"/>
                </a:cubicBezTo>
                <a:cubicBezTo>
                  <a:pt x="3974" y="340"/>
                  <a:pt x="3960" y="347"/>
                  <a:pt x="3990" y="337"/>
                </a:cubicBezTo>
                <a:cubicBezTo>
                  <a:pt x="4011" y="323"/>
                  <a:pt x="4032" y="316"/>
                  <a:pt x="4053" y="302"/>
                </a:cubicBezTo>
                <a:cubicBezTo>
                  <a:pt x="4087" y="251"/>
                  <a:pt x="4042" y="311"/>
                  <a:pt x="4095" y="267"/>
                </a:cubicBezTo>
                <a:cubicBezTo>
                  <a:pt x="4109" y="255"/>
                  <a:pt x="4117" y="238"/>
                  <a:pt x="4130" y="225"/>
                </a:cubicBezTo>
                <a:cubicBezTo>
                  <a:pt x="4125" y="103"/>
                  <a:pt x="4169" y="49"/>
                  <a:pt x="4060" y="49"/>
                </a:cubicBezTo>
                <a:close/>
              </a:path>
            </a:pathLst>
          </a:custGeom>
          <a:solidFill>
            <a:srgbClr val="808080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523880" y="76320"/>
            <a:ext cx="586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Угадай матер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09480" y="83808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Афр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00400" y="641520"/>
            <a:ext cx="5811840" cy="3625560"/>
          </a:xfrm>
          <a:custGeom>
            <a:avLst/>
            <a:gdLst/>
            <a:ahLst/>
            <a:rect l="l" t="t" r="r" b="b"/>
            <a:pathLst>
              <a:path w="5197" h="3160">
                <a:moveTo>
                  <a:pt x="2299" y="634"/>
                </a:moveTo>
                <a:cubicBezTo>
                  <a:pt x="2285" y="636"/>
                  <a:pt x="2269" y="634"/>
                  <a:pt x="2257" y="641"/>
                </a:cubicBezTo>
                <a:cubicBezTo>
                  <a:pt x="2238" y="652"/>
                  <a:pt x="2261" y="692"/>
                  <a:pt x="2243" y="704"/>
                </a:cubicBezTo>
                <a:cubicBezTo>
                  <a:pt x="2223" y="717"/>
                  <a:pt x="2196" y="709"/>
                  <a:pt x="2173" y="711"/>
                </a:cubicBezTo>
                <a:cubicBezTo>
                  <a:pt x="2111" y="732"/>
                  <a:pt x="2141" y="668"/>
                  <a:pt x="2180" y="655"/>
                </a:cubicBezTo>
                <a:cubicBezTo>
                  <a:pt x="2167" y="615"/>
                  <a:pt x="2170" y="599"/>
                  <a:pt x="2138" y="578"/>
                </a:cubicBezTo>
                <a:cubicBezTo>
                  <a:pt x="2113" y="540"/>
                  <a:pt x="2100" y="543"/>
                  <a:pt x="2053" y="536"/>
                </a:cubicBezTo>
                <a:cubicBezTo>
                  <a:pt x="2013" y="509"/>
                  <a:pt x="1947" y="496"/>
                  <a:pt x="1899" y="486"/>
                </a:cubicBezTo>
                <a:cubicBezTo>
                  <a:pt x="1824" y="488"/>
                  <a:pt x="1749" y="489"/>
                  <a:pt x="1674" y="493"/>
                </a:cubicBezTo>
                <a:cubicBezTo>
                  <a:pt x="1650" y="494"/>
                  <a:pt x="1653" y="505"/>
                  <a:pt x="1632" y="515"/>
                </a:cubicBezTo>
                <a:cubicBezTo>
                  <a:pt x="1603" y="528"/>
                  <a:pt x="1571" y="533"/>
                  <a:pt x="1541" y="543"/>
                </a:cubicBezTo>
                <a:cubicBezTo>
                  <a:pt x="1504" y="598"/>
                  <a:pt x="1393" y="581"/>
                  <a:pt x="1337" y="585"/>
                </a:cubicBezTo>
                <a:cubicBezTo>
                  <a:pt x="1332" y="592"/>
                  <a:pt x="1330" y="601"/>
                  <a:pt x="1323" y="606"/>
                </a:cubicBezTo>
                <a:cubicBezTo>
                  <a:pt x="1317" y="611"/>
                  <a:pt x="1307" y="608"/>
                  <a:pt x="1302" y="613"/>
                </a:cubicBezTo>
                <a:cubicBezTo>
                  <a:pt x="1282" y="633"/>
                  <a:pt x="1307" y="646"/>
                  <a:pt x="1260" y="662"/>
                </a:cubicBezTo>
                <a:cubicBezTo>
                  <a:pt x="1243" y="687"/>
                  <a:pt x="1228" y="688"/>
                  <a:pt x="1203" y="704"/>
                </a:cubicBezTo>
                <a:cubicBezTo>
                  <a:pt x="1189" y="745"/>
                  <a:pt x="1175" y="774"/>
                  <a:pt x="1133" y="788"/>
                </a:cubicBezTo>
                <a:cubicBezTo>
                  <a:pt x="1128" y="793"/>
                  <a:pt x="1123" y="797"/>
                  <a:pt x="1119" y="803"/>
                </a:cubicBezTo>
                <a:cubicBezTo>
                  <a:pt x="1061" y="882"/>
                  <a:pt x="1123" y="843"/>
                  <a:pt x="958" y="852"/>
                </a:cubicBezTo>
                <a:cubicBezTo>
                  <a:pt x="931" y="859"/>
                  <a:pt x="920" y="871"/>
                  <a:pt x="894" y="880"/>
                </a:cubicBezTo>
                <a:cubicBezTo>
                  <a:pt x="862" y="928"/>
                  <a:pt x="882" y="917"/>
                  <a:pt x="845" y="929"/>
                </a:cubicBezTo>
                <a:cubicBezTo>
                  <a:pt x="790" y="1012"/>
                  <a:pt x="596" y="963"/>
                  <a:pt x="550" y="964"/>
                </a:cubicBezTo>
                <a:cubicBezTo>
                  <a:pt x="527" y="979"/>
                  <a:pt x="517" y="998"/>
                  <a:pt x="494" y="1013"/>
                </a:cubicBezTo>
                <a:cubicBezTo>
                  <a:pt x="489" y="1027"/>
                  <a:pt x="485" y="1041"/>
                  <a:pt x="480" y="1055"/>
                </a:cubicBezTo>
                <a:cubicBezTo>
                  <a:pt x="472" y="1078"/>
                  <a:pt x="481" y="1104"/>
                  <a:pt x="473" y="1126"/>
                </a:cubicBezTo>
                <a:cubicBezTo>
                  <a:pt x="471" y="1133"/>
                  <a:pt x="459" y="1131"/>
                  <a:pt x="452" y="1133"/>
                </a:cubicBezTo>
                <a:cubicBezTo>
                  <a:pt x="364" y="1125"/>
                  <a:pt x="349" y="1119"/>
                  <a:pt x="255" y="1126"/>
                </a:cubicBezTo>
                <a:cubicBezTo>
                  <a:pt x="218" y="1150"/>
                  <a:pt x="181" y="1165"/>
                  <a:pt x="150" y="1196"/>
                </a:cubicBezTo>
                <a:cubicBezTo>
                  <a:pt x="137" y="1263"/>
                  <a:pt x="99" y="1257"/>
                  <a:pt x="44" y="1266"/>
                </a:cubicBezTo>
                <a:cubicBezTo>
                  <a:pt x="43" y="1296"/>
                  <a:pt x="0" y="1496"/>
                  <a:pt x="73" y="1519"/>
                </a:cubicBezTo>
                <a:cubicBezTo>
                  <a:pt x="127" y="1517"/>
                  <a:pt x="181" y="1521"/>
                  <a:pt x="234" y="1512"/>
                </a:cubicBezTo>
                <a:cubicBezTo>
                  <a:pt x="259" y="1508"/>
                  <a:pt x="272" y="1474"/>
                  <a:pt x="297" y="1470"/>
                </a:cubicBezTo>
                <a:cubicBezTo>
                  <a:pt x="347" y="1462"/>
                  <a:pt x="325" y="1467"/>
                  <a:pt x="361" y="1456"/>
                </a:cubicBezTo>
                <a:cubicBezTo>
                  <a:pt x="402" y="1429"/>
                  <a:pt x="453" y="1417"/>
                  <a:pt x="501" y="1407"/>
                </a:cubicBezTo>
                <a:cubicBezTo>
                  <a:pt x="558" y="1369"/>
                  <a:pt x="575" y="1388"/>
                  <a:pt x="663" y="1393"/>
                </a:cubicBezTo>
                <a:cubicBezTo>
                  <a:pt x="675" y="1464"/>
                  <a:pt x="673" y="1415"/>
                  <a:pt x="705" y="1463"/>
                </a:cubicBezTo>
                <a:cubicBezTo>
                  <a:pt x="708" y="1477"/>
                  <a:pt x="714" y="1532"/>
                  <a:pt x="733" y="1540"/>
                </a:cubicBezTo>
                <a:cubicBezTo>
                  <a:pt x="764" y="1552"/>
                  <a:pt x="798" y="1549"/>
                  <a:pt x="831" y="1554"/>
                </a:cubicBezTo>
                <a:cubicBezTo>
                  <a:pt x="840" y="1611"/>
                  <a:pt x="825" y="1592"/>
                  <a:pt x="880" y="1610"/>
                </a:cubicBezTo>
                <a:cubicBezTo>
                  <a:pt x="896" y="1615"/>
                  <a:pt x="923" y="1638"/>
                  <a:pt x="923" y="1638"/>
                </a:cubicBezTo>
                <a:cubicBezTo>
                  <a:pt x="989" y="1741"/>
                  <a:pt x="1209" y="1686"/>
                  <a:pt x="1274" y="1688"/>
                </a:cubicBezTo>
                <a:cubicBezTo>
                  <a:pt x="1312" y="1745"/>
                  <a:pt x="1289" y="1741"/>
                  <a:pt x="1372" y="1751"/>
                </a:cubicBezTo>
                <a:cubicBezTo>
                  <a:pt x="1362" y="1802"/>
                  <a:pt x="1362" y="1805"/>
                  <a:pt x="1309" y="1814"/>
                </a:cubicBezTo>
                <a:cubicBezTo>
                  <a:pt x="1303" y="1832"/>
                  <a:pt x="1292" y="1871"/>
                  <a:pt x="1274" y="1877"/>
                </a:cubicBezTo>
                <a:cubicBezTo>
                  <a:pt x="1260" y="1882"/>
                  <a:pt x="1232" y="1891"/>
                  <a:pt x="1232" y="1891"/>
                </a:cubicBezTo>
                <a:cubicBezTo>
                  <a:pt x="1207" y="1965"/>
                  <a:pt x="1194" y="2080"/>
                  <a:pt x="1281" y="2109"/>
                </a:cubicBezTo>
                <a:cubicBezTo>
                  <a:pt x="1305" y="2145"/>
                  <a:pt x="1292" y="2119"/>
                  <a:pt x="1302" y="2179"/>
                </a:cubicBezTo>
                <a:cubicBezTo>
                  <a:pt x="1304" y="2191"/>
                  <a:pt x="1299" y="2207"/>
                  <a:pt x="1309" y="2214"/>
                </a:cubicBezTo>
                <a:cubicBezTo>
                  <a:pt x="1325" y="2224"/>
                  <a:pt x="1346" y="2219"/>
                  <a:pt x="1365" y="2221"/>
                </a:cubicBezTo>
                <a:cubicBezTo>
                  <a:pt x="1370" y="2231"/>
                  <a:pt x="1372" y="2242"/>
                  <a:pt x="1379" y="2250"/>
                </a:cubicBezTo>
                <a:cubicBezTo>
                  <a:pt x="1384" y="2255"/>
                  <a:pt x="1398" y="2250"/>
                  <a:pt x="1400" y="2257"/>
                </a:cubicBezTo>
                <a:cubicBezTo>
                  <a:pt x="1409" y="2296"/>
                  <a:pt x="1393" y="2339"/>
                  <a:pt x="1407" y="2376"/>
                </a:cubicBezTo>
                <a:cubicBezTo>
                  <a:pt x="1412" y="2390"/>
                  <a:pt x="1449" y="2390"/>
                  <a:pt x="1449" y="2390"/>
                </a:cubicBezTo>
                <a:cubicBezTo>
                  <a:pt x="1456" y="2436"/>
                  <a:pt x="1458" y="2477"/>
                  <a:pt x="1484" y="2516"/>
                </a:cubicBezTo>
                <a:cubicBezTo>
                  <a:pt x="1489" y="2531"/>
                  <a:pt x="1506" y="2607"/>
                  <a:pt x="1506" y="2608"/>
                </a:cubicBezTo>
                <a:cubicBezTo>
                  <a:pt x="1511" y="2619"/>
                  <a:pt x="1539" y="2626"/>
                  <a:pt x="1548" y="2629"/>
                </a:cubicBezTo>
                <a:cubicBezTo>
                  <a:pt x="1550" y="2636"/>
                  <a:pt x="1554" y="2643"/>
                  <a:pt x="1555" y="2650"/>
                </a:cubicBezTo>
                <a:cubicBezTo>
                  <a:pt x="1570" y="2738"/>
                  <a:pt x="1535" y="2715"/>
                  <a:pt x="1639" y="2706"/>
                </a:cubicBezTo>
                <a:cubicBezTo>
                  <a:pt x="1675" y="2694"/>
                  <a:pt x="1714" y="2680"/>
                  <a:pt x="1751" y="2671"/>
                </a:cubicBezTo>
                <a:cubicBezTo>
                  <a:pt x="1760" y="2669"/>
                  <a:pt x="1770" y="2667"/>
                  <a:pt x="1779" y="2664"/>
                </a:cubicBezTo>
                <a:cubicBezTo>
                  <a:pt x="1793" y="2660"/>
                  <a:pt x="1822" y="2650"/>
                  <a:pt x="1822" y="2650"/>
                </a:cubicBezTo>
                <a:cubicBezTo>
                  <a:pt x="1858" y="2614"/>
                  <a:pt x="1913" y="2613"/>
                  <a:pt x="1962" y="2608"/>
                </a:cubicBezTo>
                <a:cubicBezTo>
                  <a:pt x="1992" y="2588"/>
                  <a:pt x="2026" y="2584"/>
                  <a:pt x="2060" y="2573"/>
                </a:cubicBezTo>
                <a:cubicBezTo>
                  <a:pt x="2062" y="2566"/>
                  <a:pt x="2062" y="2557"/>
                  <a:pt x="2067" y="2552"/>
                </a:cubicBezTo>
                <a:cubicBezTo>
                  <a:pt x="2070" y="2549"/>
                  <a:pt x="2117" y="2538"/>
                  <a:pt x="2117" y="2538"/>
                </a:cubicBezTo>
                <a:cubicBezTo>
                  <a:pt x="2199" y="2513"/>
                  <a:pt x="2121" y="2527"/>
                  <a:pt x="2250" y="2516"/>
                </a:cubicBezTo>
                <a:cubicBezTo>
                  <a:pt x="2252" y="2500"/>
                  <a:pt x="2247" y="2480"/>
                  <a:pt x="2257" y="2467"/>
                </a:cubicBezTo>
                <a:cubicBezTo>
                  <a:pt x="2266" y="2455"/>
                  <a:pt x="2299" y="2453"/>
                  <a:pt x="2299" y="2453"/>
                </a:cubicBezTo>
                <a:cubicBezTo>
                  <a:pt x="2317" y="2400"/>
                  <a:pt x="2291" y="2463"/>
                  <a:pt x="2327" y="2418"/>
                </a:cubicBezTo>
                <a:cubicBezTo>
                  <a:pt x="2337" y="2406"/>
                  <a:pt x="2339" y="2389"/>
                  <a:pt x="2348" y="2376"/>
                </a:cubicBezTo>
                <a:cubicBezTo>
                  <a:pt x="2358" y="2286"/>
                  <a:pt x="2350" y="2309"/>
                  <a:pt x="2440" y="2299"/>
                </a:cubicBezTo>
                <a:cubicBezTo>
                  <a:pt x="2468" y="2290"/>
                  <a:pt x="2480" y="2281"/>
                  <a:pt x="2496" y="2257"/>
                </a:cubicBezTo>
                <a:cubicBezTo>
                  <a:pt x="2515" y="2259"/>
                  <a:pt x="2535" y="2257"/>
                  <a:pt x="2552" y="2264"/>
                </a:cubicBezTo>
                <a:cubicBezTo>
                  <a:pt x="2560" y="2267"/>
                  <a:pt x="2560" y="2279"/>
                  <a:pt x="2566" y="2285"/>
                </a:cubicBezTo>
                <a:cubicBezTo>
                  <a:pt x="2572" y="2291"/>
                  <a:pt x="2579" y="2297"/>
                  <a:pt x="2587" y="2299"/>
                </a:cubicBezTo>
                <a:cubicBezTo>
                  <a:pt x="2612" y="2307"/>
                  <a:pt x="2639" y="2307"/>
                  <a:pt x="2665" y="2313"/>
                </a:cubicBezTo>
                <a:cubicBezTo>
                  <a:pt x="2667" y="2329"/>
                  <a:pt x="2665" y="2347"/>
                  <a:pt x="2672" y="2362"/>
                </a:cubicBezTo>
                <a:cubicBezTo>
                  <a:pt x="2675" y="2370"/>
                  <a:pt x="2687" y="2370"/>
                  <a:pt x="2693" y="2376"/>
                </a:cubicBezTo>
                <a:cubicBezTo>
                  <a:pt x="2699" y="2382"/>
                  <a:pt x="2699" y="2393"/>
                  <a:pt x="2707" y="2397"/>
                </a:cubicBezTo>
                <a:cubicBezTo>
                  <a:pt x="2739" y="2413"/>
                  <a:pt x="2777" y="2407"/>
                  <a:pt x="2812" y="2411"/>
                </a:cubicBezTo>
                <a:cubicBezTo>
                  <a:pt x="2821" y="2425"/>
                  <a:pt x="2831" y="2439"/>
                  <a:pt x="2840" y="2453"/>
                </a:cubicBezTo>
                <a:cubicBezTo>
                  <a:pt x="2841" y="2454"/>
                  <a:pt x="2906" y="2476"/>
                  <a:pt x="2924" y="2488"/>
                </a:cubicBezTo>
                <a:cubicBezTo>
                  <a:pt x="2929" y="2593"/>
                  <a:pt x="2909" y="2625"/>
                  <a:pt x="2953" y="2692"/>
                </a:cubicBezTo>
                <a:cubicBezTo>
                  <a:pt x="2955" y="2725"/>
                  <a:pt x="2952" y="2758"/>
                  <a:pt x="2960" y="2790"/>
                </a:cubicBezTo>
                <a:cubicBezTo>
                  <a:pt x="2962" y="2797"/>
                  <a:pt x="2975" y="2793"/>
                  <a:pt x="2981" y="2797"/>
                </a:cubicBezTo>
                <a:cubicBezTo>
                  <a:pt x="2987" y="2801"/>
                  <a:pt x="2991" y="2806"/>
                  <a:pt x="2995" y="2812"/>
                </a:cubicBezTo>
                <a:cubicBezTo>
                  <a:pt x="3039" y="2872"/>
                  <a:pt x="3077" y="2914"/>
                  <a:pt x="3149" y="2938"/>
                </a:cubicBezTo>
                <a:cubicBezTo>
                  <a:pt x="3167" y="3009"/>
                  <a:pt x="3213" y="2978"/>
                  <a:pt x="3290" y="2973"/>
                </a:cubicBezTo>
                <a:cubicBezTo>
                  <a:pt x="3282" y="2874"/>
                  <a:pt x="3292" y="2916"/>
                  <a:pt x="3269" y="2847"/>
                </a:cubicBezTo>
                <a:cubicBezTo>
                  <a:pt x="3251" y="2792"/>
                  <a:pt x="3273" y="2861"/>
                  <a:pt x="3255" y="2804"/>
                </a:cubicBezTo>
                <a:cubicBezTo>
                  <a:pt x="3253" y="2797"/>
                  <a:pt x="3248" y="2783"/>
                  <a:pt x="3248" y="2783"/>
                </a:cubicBezTo>
                <a:cubicBezTo>
                  <a:pt x="3250" y="2736"/>
                  <a:pt x="3242" y="2688"/>
                  <a:pt x="3255" y="2643"/>
                </a:cubicBezTo>
                <a:cubicBezTo>
                  <a:pt x="3261" y="2623"/>
                  <a:pt x="3324" y="2606"/>
                  <a:pt x="3339" y="2601"/>
                </a:cubicBezTo>
                <a:cubicBezTo>
                  <a:pt x="3355" y="2596"/>
                  <a:pt x="3365" y="2576"/>
                  <a:pt x="3381" y="2573"/>
                </a:cubicBezTo>
                <a:cubicBezTo>
                  <a:pt x="3431" y="2563"/>
                  <a:pt x="3455" y="2539"/>
                  <a:pt x="3500" y="2524"/>
                </a:cubicBezTo>
                <a:cubicBezTo>
                  <a:pt x="3523" y="2501"/>
                  <a:pt x="3510" y="2492"/>
                  <a:pt x="3543" y="2481"/>
                </a:cubicBezTo>
                <a:cubicBezTo>
                  <a:pt x="3564" y="2449"/>
                  <a:pt x="3608" y="2444"/>
                  <a:pt x="3641" y="2425"/>
                </a:cubicBezTo>
                <a:cubicBezTo>
                  <a:pt x="3656" y="2417"/>
                  <a:pt x="3683" y="2397"/>
                  <a:pt x="3683" y="2397"/>
                </a:cubicBezTo>
                <a:cubicBezTo>
                  <a:pt x="3706" y="2405"/>
                  <a:pt x="3737" y="2393"/>
                  <a:pt x="3753" y="2411"/>
                </a:cubicBezTo>
                <a:cubicBezTo>
                  <a:pt x="3758" y="2417"/>
                  <a:pt x="3765" y="2544"/>
                  <a:pt x="3767" y="2552"/>
                </a:cubicBezTo>
                <a:cubicBezTo>
                  <a:pt x="3771" y="2568"/>
                  <a:pt x="3778" y="2593"/>
                  <a:pt x="3795" y="2594"/>
                </a:cubicBezTo>
                <a:cubicBezTo>
                  <a:pt x="3847" y="2596"/>
                  <a:pt x="3898" y="2599"/>
                  <a:pt x="3950" y="2601"/>
                </a:cubicBezTo>
                <a:cubicBezTo>
                  <a:pt x="3967" y="2626"/>
                  <a:pt x="3969" y="2650"/>
                  <a:pt x="3978" y="2678"/>
                </a:cubicBezTo>
                <a:cubicBezTo>
                  <a:pt x="3980" y="2699"/>
                  <a:pt x="3977" y="2721"/>
                  <a:pt x="3985" y="2741"/>
                </a:cubicBezTo>
                <a:cubicBezTo>
                  <a:pt x="3988" y="2748"/>
                  <a:pt x="4005" y="2741"/>
                  <a:pt x="4006" y="2748"/>
                </a:cubicBezTo>
                <a:cubicBezTo>
                  <a:pt x="4037" y="2928"/>
                  <a:pt x="3958" y="2906"/>
                  <a:pt x="4091" y="2938"/>
                </a:cubicBezTo>
                <a:cubicBezTo>
                  <a:pt x="4099" y="3039"/>
                  <a:pt x="4081" y="3014"/>
                  <a:pt x="4147" y="3036"/>
                </a:cubicBezTo>
                <a:cubicBezTo>
                  <a:pt x="4169" y="3101"/>
                  <a:pt x="4160" y="3082"/>
                  <a:pt x="4238" y="3092"/>
                </a:cubicBezTo>
                <a:cubicBezTo>
                  <a:pt x="4268" y="3124"/>
                  <a:pt x="4302" y="3133"/>
                  <a:pt x="4336" y="3156"/>
                </a:cubicBezTo>
                <a:cubicBezTo>
                  <a:pt x="4355" y="3154"/>
                  <a:pt x="4377" y="3160"/>
                  <a:pt x="4393" y="3149"/>
                </a:cubicBezTo>
                <a:cubicBezTo>
                  <a:pt x="4401" y="3143"/>
                  <a:pt x="4393" y="3127"/>
                  <a:pt x="4386" y="3121"/>
                </a:cubicBezTo>
                <a:cubicBezTo>
                  <a:pt x="4374" y="3111"/>
                  <a:pt x="4343" y="3107"/>
                  <a:pt x="4343" y="3107"/>
                </a:cubicBezTo>
                <a:cubicBezTo>
                  <a:pt x="4305" y="3066"/>
                  <a:pt x="4306" y="3006"/>
                  <a:pt x="4280" y="2966"/>
                </a:cubicBezTo>
                <a:cubicBezTo>
                  <a:pt x="4258" y="2933"/>
                  <a:pt x="4274" y="2948"/>
                  <a:pt x="4224" y="2931"/>
                </a:cubicBezTo>
                <a:cubicBezTo>
                  <a:pt x="4217" y="2929"/>
                  <a:pt x="4203" y="2924"/>
                  <a:pt x="4203" y="2924"/>
                </a:cubicBezTo>
                <a:cubicBezTo>
                  <a:pt x="4196" y="2903"/>
                  <a:pt x="4189" y="2882"/>
                  <a:pt x="4182" y="2861"/>
                </a:cubicBezTo>
                <a:cubicBezTo>
                  <a:pt x="4180" y="2854"/>
                  <a:pt x="4175" y="2840"/>
                  <a:pt x="4175" y="2840"/>
                </a:cubicBezTo>
                <a:cubicBezTo>
                  <a:pt x="4243" y="2817"/>
                  <a:pt x="4297" y="2883"/>
                  <a:pt x="4357" y="2903"/>
                </a:cubicBezTo>
                <a:cubicBezTo>
                  <a:pt x="4367" y="2901"/>
                  <a:pt x="4378" y="2901"/>
                  <a:pt x="4386" y="2896"/>
                </a:cubicBezTo>
                <a:cubicBezTo>
                  <a:pt x="4393" y="2891"/>
                  <a:pt x="4393" y="2879"/>
                  <a:pt x="4400" y="2875"/>
                </a:cubicBezTo>
                <a:cubicBezTo>
                  <a:pt x="4413" y="2867"/>
                  <a:pt x="4428" y="2866"/>
                  <a:pt x="4442" y="2861"/>
                </a:cubicBezTo>
                <a:cubicBezTo>
                  <a:pt x="4456" y="2856"/>
                  <a:pt x="4484" y="2847"/>
                  <a:pt x="4484" y="2847"/>
                </a:cubicBezTo>
                <a:cubicBezTo>
                  <a:pt x="4520" y="2740"/>
                  <a:pt x="4500" y="2600"/>
                  <a:pt x="4421" y="2516"/>
                </a:cubicBezTo>
                <a:cubicBezTo>
                  <a:pt x="4419" y="2509"/>
                  <a:pt x="4420" y="2499"/>
                  <a:pt x="4414" y="2495"/>
                </a:cubicBezTo>
                <a:cubicBezTo>
                  <a:pt x="4402" y="2486"/>
                  <a:pt x="4371" y="2481"/>
                  <a:pt x="4371" y="2481"/>
                </a:cubicBezTo>
                <a:cubicBezTo>
                  <a:pt x="4335" y="2457"/>
                  <a:pt x="4336" y="2432"/>
                  <a:pt x="4379" y="2418"/>
                </a:cubicBezTo>
                <a:cubicBezTo>
                  <a:pt x="4457" y="2366"/>
                  <a:pt x="4558" y="2419"/>
                  <a:pt x="4645" y="2390"/>
                </a:cubicBezTo>
                <a:cubicBezTo>
                  <a:pt x="4661" y="2366"/>
                  <a:pt x="4668" y="2357"/>
                  <a:pt x="4695" y="2348"/>
                </a:cubicBezTo>
                <a:cubicBezTo>
                  <a:pt x="4712" y="2298"/>
                  <a:pt x="4697" y="2314"/>
                  <a:pt x="4730" y="2292"/>
                </a:cubicBezTo>
                <a:cubicBezTo>
                  <a:pt x="4763" y="2243"/>
                  <a:pt x="4744" y="2259"/>
                  <a:pt x="4779" y="2236"/>
                </a:cubicBezTo>
                <a:cubicBezTo>
                  <a:pt x="4788" y="2208"/>
                  <a:pt x="4805" y="2203"/>
                  <a:pt x="4821" y="2179"/>
                </a:cubicBezTo>
                <a:cubicBezTo>
                  <a:pt x="4819" y="2114"/>
                  <a:pt x="4820" y="2048"/>
                  <a:pt x="4814" y="1983"/>
                </a:cubicBezTo>
                <a:cubicBezTo>
                  <a:pt x="4811" y="1948"/>
                  <a:pt x="4793" y="1926"/>
                  <a:pt x="4779" y="1898"/>
                </a:cubicBezTo>
                <a:cubicBezTo>
                  <a:pt x="4768" y="1876"/>
                  <a:pt x="4770" y="1849"/>
                  <a:pt x="4758" y="1828"/>
                </a:cubicBezTo>
                <a:cubicBezTo>
                  <a:pt x="4718" y="1756"/>
                  <a:pt x="4739" y="1813"/>
                  <a:pt x="4723" y="1765"/>
                </a:cubicBezTo>
                <a:cubicBezTo>
                  <a:pt x="4731" y="1628"/>
                  <a:pt x="4708" y="1641"/>
                  <a:pt x="4828" y="1652"/>
                </a:cubicBezTo>
                <a:cubicBezTo>
                  <a:pt x="4835" y="1657"/>
                  <a:pt x="4841" y="1663"/>
                  <a:pt x="4849" y="1667"/>
                </a:cubicBezTo>
                <a:cubicBezTo>
                  <a:pt x="4858" y="1671"/>
                  <a:pt x="4870" y="1667"/>
                  <a:pt x="4877" y="1674"/>
                </a:cubicBezTo>
                <a:cubicBezTo>
                  <a:pt x="4884" y="1681"/>
                  <a:pt x="4879" y="1694"/>
                  <a:pt x="4884" y="1702"/>
                </a:cubicBezTo>
                <a:cubicBezTo>
                  <a:pt x="4892" y="1717"/>
                  <a:pt x="4913" y="1728"/>
                  <a:pt x="4926" y="1737"/>
                </a:cubicBezTo>
                <a:cubicBezTo>
                  <a:pt x="5001" y="1726"/>
                  <a:pt x="4994" y="1715"/>
                  <a:pt x="4976" y="1624"/>
                </a:cubicBezTo>
                <a:cubicBezTo>
                  <a:pt x="4975" y="1617"/>
                  <a:pt x="4955" y="1593"/>
                  <a:pt x="4947" y="1589"/>
                </a:cubicBezTo>
                <a:cubicBezTo>
                  <a:pt x="4934" y="1582"/>
                  <a:pt x="4905" y="1575"/>
                  <a:pt x="4905" y="1575"/>
                </a:cubicBezTo>
                <a:cubicBezTo>
                  <a:pt x="4858" y="1504"/>
                  <a:pt x="4880" y="1413"/>
                  <a:pt x="4905" y="1336"/>
                </a:cubicBezTo>
                <a:cubicBezTo>
                  <a:pt x="4912" y="1313"/>
                  <a:pt x="4932" y="1296"/>
                  <a:pt x="4940" y="1273"/>
                </a:cubicBezTo>
                <a:cubicBezTo>
                  <a:pt x="4938" y="1224"/>
                  <a:pt x="4941" y="1174"/>
                  <a:pt x="4933" y="1126"/>
                </a:cubicBezTo>
                <a:cubicBezTo>
                  <a:pt x="4932" y="1118"/>
                  <a:pt x="4917" y="1119"/>
                  <a:pt x="4912" y="1112"/>
                </a:cubicBezTo>
                <a:cubicBezTo>
                  <a:pt x="4885" y="1078"/>
                  <a:pt x="4930" y="1099"/>
                  <a:pt x="4884" y="1084"/>
                </a:cubicBezTo>
                <a:cubicBezTo>
                  <a:pt x="4877" y="1079"/>
                  <a:pt x="4870" y="1075"/>
                  <a:pt x="4863" y="1069"/>
                </a:cubicBezTo>
                <a:cubicBezTo>
                  <a:pt x="4855" y="1063"/>
                  <a:pt x="4842" y="1048"/>
                  <a:pt x="4842" y="1048"/>
                </a:cubicBezTo>
                <a:cubicBezTo>
                  <a:pt x="4868" y="1016"/>
                  <a:pt x="4852" y="1040"/>
                  <a:pt x="4835" y="1041"/>
                </a:cubicBezTo>
                <a:cubicBezTo>
                  <a:pt x="4828" y="1041"/>
                  <a:pt x="4821" y="1036"/>
                  <a:pt x="4814" y="1034"/>
                </a:cubicBezTo>
                <a:cubicBezTo>
                  <a:pt x="4783" y="1003"/>
                  <a:pt x="4754" y="906"/>
                  <a:pt x="4709" y="901"/>
                </a:cubicBezTo>
                <a:cubicBezTo>
                  <a:pt x="4671" y="897"/>
                  <a:pt x="4634" y="896"/>
                  <a:pt x="4596" y="894"/>
                </a:cubicBezTo>
                <a:cubicBezTo>
                  <a:pt x="4568" y="875"/>
                  <a:pt x="4560" y="847"/>
                  <a:pt x="4540" y="817"/>
                </a:cubicBezTo>
                <a:cubicBezTo>
                  <a:pt x="4535" y="810"/>
                  <a:pt x="4526" y="796"/>
                  <a:pt x="4526" y="796"/>
                </a:cubicBezTo>
                <a:cubicBezTo>
                  <a:pt x="4514" y="758"/>
                  <a:pt x="4520" y="704"/>
                  <a:pt x="4561" y="690"/>
                </a:cubicBezTo>
                <a:cubicBezTo>
                  <a:pt x="4573" y="654"/>
                  <a:pt x="4588" y="639"/>
                  <a:pt x="4624" y="627"/>
                </a:cubicBezTo>
                <a:cubicBezTo>
                  <a:pt x="4669" y="629"/>
                  <a:pt x="4716" y="617"/>
                  <a:pt x="4758" y="634"/>
                </a:cubicBezTo>
                <a:cubicBezTo>
                  <a:pt x="4773" y="640"/>
                  <a:pt x="4758" y="668"/>
                  <a:pt x="4765" y="683"/>
                </a:cubicBezTo>
                <a:cubicBezTo>
                  <a:pt x="4772" y="699"/>
                  <a:pt x="4811" y="701"/>
                  <a:pt x="4821" y="704"/>
                </a:cubicBezTo>
                <a:cubicBezTo>
                  <a:pt x="4835" y="708"/>
                  <a:pt x="4863" y="718"/>
                  <a:pt x="4863" y="718"/>
                </a:cubicBezTo>
                <a:cubicBezTo>
                  <a:pt x="4865" y="737"/>
                  <a:pt x="4852" y="768"/>
                  <a:pt x="4870" y="774"/>
                </a:cubicBezTo>
                <a:cubicBezTo>
                  <a:pt x="5064" y="843"/>
                  <a:pt x="5027" y="709"/>
                  <a:pt x="5046" y="824"/>
                </a:cubicBezTo>
                <a:cubicBezTo>
                  <a:pt x="5081" y="822"/>
                  <a:pt x="5121" y="835"/>
                  <a:pt x="5151" y="817"/>
                </a:cubicBezTo>
                <a:cubicBezTo>
                  <a:pt x="5197" y="790"/>
                  <a:pt x="5098" y="720"/>
                  <a:pt x="5095" y="718"/>
                </a:cubicBezTo>
                <a:cubicBezTo>
                  <a:pt x="5081" y="709"/>
                  <a:pt x="5053" y="690"/>
                  <a:pt x="5053" y="690"/>
                </a:cubicBezTo>
                <a:cubicBezTo>
                  <a:pt x="5044" y="676"/>
                  <a:pt x="5030" y="664"/>
                  <a:pt x="5025" y="648"/>
                </a:cubicBezTo>
                <a:cubicBezTo>
                  <a:pt x="5010" y="604"/>
                  <a:pt x="4990" y="534"/>
                  <a:pt x="4947" y="508"/>
                </a:cubicBezTo>
                <a:cubicBezTo>
                  <a:pt x="4891" y="474"/>
                  <a:pt x="4819" y="473"/>
                  <a:pt x="4765" y="437"/>
                </a:cubicBezTo>
                <a:cubicBezTo>
                  <a:pt x="4752" y="398"/>
                  <a:pt x="4750" y="383"/>
                  <a:pt x="4716" y="360"/>
                </a:cubicBezTo>
                <a:cubicBezTo>
                  <a:pt x="4704" y="325"/>
                  <a:pt x="4689" y="302"/>
                  <a:pt x="4659" y="283"/>
                </a:cubicBezTo>
                <a:cubicBezTo>
                  <a:pt x="4654" y="269"/>
                  <a:pt x="4613" y="194"/>
                  <a:pt x="4596" y="184"/>
                </a:cubicBezTo>
                <a:cubicBezTo>
                  <a:pt x="4567" y="166"/>
                  <a:pt x="4518" y="157"/>
                  <a:pt x="4484" y="149"/>
                </a:cubicBezTo>
                <a:cubicBezTo>
                  <a:pt x="4447" y="125"/>
                  <a:pt x="4446" y="115"/>
                  <a:pt x="4400" y="100"/>
                </a:cubicBezTo>
                <a:cubicBezTo>
                  <a:pt x="4357" y="86"/>
                  <a:pt x="4399" y="89"/>
                  <a:pt x="4364" y="72"/>
                </a:cubicBezTo>
                <a:cubicBezTo>
                  <a:pt x="4351" y="65"/>
                  <a:pt x="4336" y="63"/>
                  <a:pt x="4322" y="58"/>
                </a:cubicBezTo>
                <a:cubicBezTo>
                  <a:pt x="4315" y="56"/>
                  <a:pt x="4301" y="51"/>
                  <a:pt x="4301" y="51"/>
                </a:cubicBezTo>
                <a:cubicBezTo>
                  <a:pt x="4288" y="38"/>
                  <a:pt x="4277" y="24"/>
                  <a:pt x="4259" y="16"/>
                </a:cubicBezTo>
                <a:cubicBezTo>
                  <a:pt x="4246" y="10"/>
                  <a:pt x="4217" y="2"/>
                  <a:pt x="4217" y="2"/>
                </a:cubicBezTo>
                <a:cubicBezTo>
                  <a:pt x="4182" y="4"/>
                  <a:pt x="4146" y="0"/>
                  <a:pt x="4112" y="9"/>
                </a:cubicBezTo>
                <a:cubicBezTo>
                  <a:pt x="4105" y="11"/>
                  <a:pt x="4108" y="23"/>
                  <a:pt x="4105" y="30"/>
                </a:cubicBezTo>
                <a:cubicBezTo>
                  <a:pt x="4086" y="67"/>
                  <a:pt x="4075" y="102"/>
                  <a:pt x="4062" y="142"/>
                </a:cubicBezTo>
                <a:cubicBezTo>
                  <a:pt x="4060" y="149"/>
                  <a:pt x="4062" y="161"/>
                  <a:pt x="4055" y="163"/>
                </a:cubicBezTo>
                <a:cubicBezTo>
                  <a:pt x="4005" y="180"/>
                  <a:pt x="4025" y="169"/>
                  <a:pt x="3992" y="191"/>
                </a:cubicBezTo>
                <a:cubicBezTo>
                  <a:pt x="3960" y="240"/>
                  <a:pt x="3890" y="236"/>
                  <a:pt x="3838" y="241"/>
                </a:cubicBezTo>
                <a:cubicBezTo>
                  <a:pt x="3806" y="262"/>
                  <a:pt x="3821" y="273"/>
                  <a:pt x="3795" y="297"/>
                </a:cubicBezTo>
                <a:cubicBezTo>
                  <a:pt x="3784" y="331"/>
                  <a:pt x="3773" y="356"/>
                  <a:pt x="3739" y="367"/>
                </a:cubicBezTo>
                <a:cubicBezTo>
                  <a:pt x="3617" y="365"/>
                  <a:pt x="3496" y="367"/>
                  <a:pt x="3374" y="360"/>
                </a:cubicBezTo>
                <a:cubicBezTo>
                  <a:pt x="3366" y="360"/>
                  <a:pt x="3361" y="350"/>
                  <a:pt x="3353" y="346"/>
                </a:cubicBezTo>
                <a:cubicBezTo>
                  <a:pt x="3346" y="343"/>
                  <a:pt x="3339" y="341"/>
                  <a:pt x="3332" y="339"/>
                </a:cubicBezTo>
                <a:cubicBezTo>
                  <a:pt x="3234" y="341"/>
                  <a:pt x="3135" y="337"/>
                  <a:pt x="3037" y="346"/>
                </a:cubicBezTo>
                <a:cubicBezTo>
                  <a:pt x="3029" y="347"/>
                  <a:pt x="3030" y="362"/>
                  <a:pt x="3023" y="367"/>
                </a:cubicBezTo>
                <a:cubicBezTo>
                  <a:pt x="3015" y="372"/>
                  <a:pt x="3004" y="372"/>
                  <a:pt x="2995" y="374"/>
                </a:cubicBezTo>
                <a:cubicBezTo>
                  <a:pt x="2979" y="398"/>
                  <a:pt x="2967" y="407"/>
                  <a:pt x="2939" y="416"/>
                </a:cubicBezTo>
                <a:cubicBezTo>
                  <a:pt x="2892" y="460"/>
                  <a:pt x="2883" y="445"/>
                  <a:pt x="2798" y="451"/>
                </a:cubicBezTo>
                <a:cubicBezTo>
                  <a:pt x="2741" y="489"/>
                  <a:pt x="2825" y="425"/>
                  <a:pt x="2770" y="536"/>
                </a:cubicBezTo>
                <a:cubicBezTo>
                  <a:pt x="2761" y="555"/>
                  <a:pt x="2709" y="577"/>
                  <a:pt x="2686" y="585"/>
                </a:cubicBezTo>
                <a:cubicBezTo>
                  <a:pt x="2623" y="579"/>
                  <a:pt x="2593" y="589"/>
                  <a:pt x="2573" y="529"/>
                </a:cubicBezTo>
                <a:cubicBezTo>
                  <a:pt x="2610" y="474"/>
                  <a:pt x="2641" y="486"/>
                  <a:pt x="2707" y="479"/>
                </a:cubicBezTo>
                <a:cubicBezTo>
                  <a:pt x="2714" y="477"/>
                  <a:pt x="2721" y="475"/>
                  <a:pt x="2728" y="472"/>
                </a:cubicBezTo>
                <a:cubicBezTo>
                  <a:pt x="2736" y="468"/>
                  <a:pt x="2741" y="461"/>
                  <a:pt x="2749" y="458"/>
                </a:cubicBezTo>
                <a:cubicBezTo>
                  <a:pt x="2762" y="452"/>
                  <a:pt x="2791" y="444"/>
                  <a:pt x="2791" y="444"/>
                </a:cubicBezTo>
                <a:cubicBezTo>
                  <a:pt x="2865" y="334"/>
                  <a:pt x="2729" y="378"/>
                  <a:pt x="2672" y="381"/>
                </a:cubicBezTo>
                <a:cubicBezTo>
                  <a:pt x="2637" y="393"/>
                  <a:pt x="2609" y="418"/>
                  <a:pt x="2573" y="430"/>
                </a:cubicBezTo>
                <a:cubicBezTo>
                  <a:pt x="2564" y="444"/>
                  <a:pt x="2550" y="456"/>
                  <a:pt x="2545" y="472"/>
                </a:cubicBezTo>
                <a:cubicBezTo>
                  <a:pt x="2543" y="479"/>
                  <a:pt x="2543" y="488"/>
                  <a:pt x="2538" y="493"/>
                </a:cubicBezTo>
                <a:cubicBezTo>
                  <a:pt x="2532" y="499"/>
                  <a:pt x="2465" y="525"/>
                  <a:pt x="2454" y="529"/>
                </a:cubicBezTo>
                <a:cubicBezTo>
                  <a:pt x="2449" y="536"/>
                  <a:pt x="2447" y="545"/>
                  <a:pt x="2440" y="550"/>
                </a:cubicBezTo>
                <a:cubicBezTo>
                  <a:pt x="2434" y="555"/>
                  <a:pt x="2424" y="552"/>
                  <a:pt x="2419" y="557"/>
                </a:cubicBezTo>
                <a:cubicBezTo>
                  <a:pt x="2407" y="569"/>
                  <a:pt x="2391" y="599"/>
                  <a:pt x="2391" y="599"/>
                </a:cubicBezTo>
                <a:cubicBezTo>
                  <a:pt x="2378" y="649"/>
                  <a:pt x="2364" y="641"/>
                  <a:pt x="2313" y="634"/>
                </a:cubicBezTo>
                <a:cubicBezTo>
                  <a:pt x="2289" y="626"/>
                  <a:pt x="2287" y="622"/>
                  <a:pt x="2299" y="634"/>
                </a:cubicBezTo>
                <a:close/>
              </a:path>
            </a:pathLst>
          </a:custGeom>
          <a:solidFill>
            <a:srgbClr val="808080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971800" y="83808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Евраз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895480" y="3733920"/>
            <a:ext cx="1828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Южная Амер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65240" y="5867280"/>
            <a:ext cx="2133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еверная Амер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952880" y="405756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Австрал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705720" y="5410080"/>
            <a:ext cx="236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Антаркти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restart="whenNotActive" nodeType="interactiveSeq" fill="hold">
                <p:stCondLst>
                  <p:cond evt="onClick">
                    <p:tgtEl>
                      <p:spTgt spid="86"/>
                    </p:tgtEl>
                  </p:cond>
                </p:stCondLst>
                <p:childTnLst>
                  <p:par>
                    <p:cTn id="139" fill="hold">
                      <p:stCondLst>
                        <p:cond evt="onClick">
                          <p:tgtEl>
                            <p:spTgt spid="86"/>
                          </p:tgtEl>
                        </p:cond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2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9" restart="whenNotActive" nodeType="interactiveSeq" fill="hold">
                <p:stCondLst>
                  <p:cond evt="onClick">
                    <p:tgtEl>
                      <p:spTgt spid="91"/>
                    </p:tgtEl>
                  </p:cond>
                </p:stCondLst>
                <p:childTnLst>
                  <p:par>
                    <p:cTn id="150" fill="hold">
                      <p:stCondLst>
                        <p:cond evt="onClick">
                          <p:tgtEl>
                            <p:spTgt spid="91"/>
                          </p:tgtEl>
                        </p:cond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0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161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1" restart="whenNotActive" nodeType="interactiveSeq" fill="hold">
                <p:stCondLst>
                  <p:cond evt="onClick">
                    <p:tgtEl>
                      <p:spTgt spid="81"/>
                    </p:tgtEl>
                  </p:cond>
                </p:stCondLst>
                <p:childTnLst>
                  <p:par>
                    <p:cTn id="172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5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2" restart="whenNotActive" nodeType="interactiveSeq" fill="hold">
                <p:stCondLst>
                  <p:cond evt="onClick">
                    <p:tgtEl>
                      <p:spTgt spid="85"/>
                    </p:tgtEl>
                  </p:cond>
                </p:stCondLst>
                <p:childTnLst>
                  <p:par>
                    <p:cTn id="183" fill="hold">
                      <p:stCondLst>
                        <p:cond evt="onClick">
                          <p:tgtEl>
                            <p:spTgt spid="85"/>
                          </p:tgtEl>
                        </p:cond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3" restart="whenNotActive" nodeType="interactiveSeq" fill="hold">
                <p:stCondLst>
                  <p:cond evt="onClick">
                    <p:tgtEl>
                      <p:spTgt spid="88"/>
                    </p:tgtEl>
                  </p:cond>
                </p:stCondLst>
                <p:childTnLst>
                  <p:par>
                    <p:cTn id="194" fill="hold">
                      <p:stCondLst>
                        <p:cond evt="onClick">
                          <p:tgtEl>
                            <p:spTgt spid="88"/>
                          </p:tgtEl>
                        </p:cond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d1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rcRect l="2830" t="3469" r="3774" b="4624"/>
          <a:stretch/>
        </p:blipFill>
        <p:spPr>
          <a:xfrm>
            <a:off x="0" y="533520"/>
            <a:ext cx="9144000" cy="489564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Океа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600200" y="692280"/>
            <a:ext cx="990720" cy="39024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6215040" y="746280"/>
            <a:ext cx="1066680" cy="26172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152280" y="5562720"/>
            <a:ext cx="541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еверный Ледовитый океа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4"/>
          <a:stretch/>
        </p:blipFill>
        <p:spPr>
          <a:xfrm>
            <a:off x="457200" y="1720800"/>
            <a:ext cx="2246400" cy="300348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152280" y="6019920"/>
            <a:ext cx="541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ихий океа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5"/>
          <a:stretch/>
        </p:blipFill>
        <p:spPr>
          <a:xfrm>
            <a:off x="6140520" y="2927520"/>
            <a:ext cx="1904760" cy="127296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5562720" y="5562720"/>
            <a:ext cx="32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ндийский океа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6"/>
          <a:stretch/>
        </p:blipFill>
        <p:spPr>
          <a:xfrm>
            <a:off x="3352680" y="1109520"/>
            <a:ext cx="2840040" cy="3733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5257800" y="6019920"/>
            <a:ext cx="37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тлантический океа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000"/>
                            </p:stCondLst>
                            <p:childTnLst>
                              <p:par>
                                <p:cTn id="219" nodeType="afterEffect" fill="hold" presetClass="entr" presetID="4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3000"/>
                            </p:stCondLst>
                            <p:childTnLst>
                              <p:par>
                                <p:cTn id="225" nodeType="afterEffect" fill="hold" presetClass="entr" presetID="5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5500"/>
                            </p:stCondLst>
                            <p:childTnLst>
                              <p:par>
                                <p:cTn id="231" nodeType="afterEffect" fill="hold" presetClass="entr" presetID="4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500"/>
                            </p:stCondLst>
                            <p:childTnLst>
                              <p:par>
                                <p:cTn id="237" nodeType="afterEffect" fill="hold" presetClass="entr" presetID="5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43" nodeType="afterEffect" fill="hold" presetClass="entr" presetID="4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12000"/>
                            </p:stCondLst>
                            <p:childTnLst>
                              <p:par>
                                <p:cTn id="249" nodeType="afterEffect" fill="hold" presetClass="entr" presetID="5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4500"/>
                            </p:stCondLst>
                            <p:childTnLst>
                              <p:par>
                                <p:cTn id="255" nodeType="afterEffect" fill="hold" presetClass="entr" presetID="4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d1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2057400" y="152280"/>
            <a:ext cx="510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Интернет ресурс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882720"/>
            <a:ext cx="9144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it-n.ru/communities.aspx?cat_no=5025&amp;lib_no=23224&amp;tmpl=li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шаблон с изображением школьной дос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Шевцова С.А.</dc:creator>
  <dc:description/>
  <dc:language>en-US</dc:language>
  <cp:lastModifiedBy>1</cp:lastModifiedBy>
  <dcterms:modified xsi:type="dcterms:W3CDTF">2010-05-11T17:16:11Z</dcterms:modified>
  <cp:revision>5</cp:revision>
  <dc:subject>карта полушарий</dc:subject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